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Jovens Brancos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105817595140932</c:v>
                </c:pt>
                <c:pt idx="1">
                  <c:v>0.105448891528799</c:v>
                </c:pt>
                <c:pt idx="2">
                  <c:v>0.181654676258993</c:v>
                </c:pt>
                <c:pt idx="3">
                  <c:v>0.0894536213468869</c:v>
                </c:pt>
                <c:pt idx="4">
                  <c:v>0.117046215673141</c:v>
                </c:pt>
                <c:pt idx="5">
                  <c:v>0.13033568172399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Jovens Negros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.148531485381787</c:v>
                </c:pt>
                <c:pt idx="1">
                  <c:v>0.140813705666976</c:v>
                </c:pt>
                <c:pt idx="2">
                  <c:v>0.160152008686211</c:v>
                </c:pt>
                <c:pt idx="3">
                  <c:v>0.147236302196476</c:v>
                </c:pt>
                <c:pt idx="4">
                  <c:v>0.189839572192513</c:v>
                </c:pt>
                <c:pt idx="5">
                  <c:v>0.23218707015130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Jovens fora da escola</c:v>
                </c:pt>
              </c:strCache>
            </c:strRef>
          </c:tx>
          <c:spPr>
            <a:solidFill>
              <a:srgbClr val="c5000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0.131198628449302</c:v>
                </c:pt>
                <c:pt idx="1">
                  <c:v>0.125408269697823</c:v>
                </c:pt>
                <c:pt idx="2">
                  <c:v>0.167565745111261</c:v>
                </c:pt>
                <c:pt idx="3">
                  <c:v>0.129777134121812</c:v>
                </c:pt>
                <c:pt idx="4">
                  <c:v>0.138666666666667</c:v>
                </c:pt>
                <c:pt idx="5">
                  <c:v>0.173584905660377</c:v>
                </c:pt>
              </c:numCache>
            </c:numRef>
          </c:val>
        </c:ser>
        <c:gapWidth val="100"/>
        <c:overlap val="0"/>
        <c:axId val="74507099"/>
        <c:axId val="99806916"/>
      </c:barChart>
      <c:catAx>
        <c:axId val="7450709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99806916"/>
        <c:crosses val="autoZero"/>
        <c:auto val="1"/>
        <c:lblAlgn val="ctr"/>
        <c:lblOffset val="100"/>
        <c:noMultiLvlLbl val="0"/>
      </c:catAx>
      <c:valAx>
        <c:axId val="99806916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74507099"/>
        <c:crossesAt val="1"/>
        <c:crossBetween val="between"/>
        <c:majorUnit val="0.1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3a3935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FD641-9A05-4956-AD16-9AA09F10E7F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8B6C5-22F6-4674-916B-2D171027C6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C17F7-54B8-4E33-9598-AE9A301727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7CD23-44EC-4F1C-8375-392B5CB526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A1392-A9B7-4433-83E3-B61A04609F4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C487B-014D-4B45-A686-3B41035CD8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02623-1C09-4DE4-B6BB-3E427AEB6E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082F7-D080-4FB8-9B35-635143820B8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91BAB-4E77-4185-ABC0-FC717C9B844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9DD1A-4DD5-405E-B235-10B1193B172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52FD8-52B8-4D64-8F66-FEC71C64749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87252-8490-4F5E-BFEE-DD2DF1A22BF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996EA-84BB-4B97-B13D-85F1B96E908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2D1ED-7C02-4F27-98DB-0D7F972C72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82C96-01D6-4796-BE1C-F4C3E0032A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D7A05-FCF7-4BBE-AF1E-4A93909F04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F145A-6253-4F18-B109-26BE5F6BE47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48CAC-6F31-407A-BB2A-D9F4FEA0504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603F0-7789-4E19-9EF3-8E4BC7C6A5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417C1-CD8F-4F14-BF8F-6578CADA262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31116-9539-4A39-A7C7-22A70B42242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784A6-2D93-4418-8A2C-A103D0C754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4CF91-8AB3-48F2-AFEF-B93AE29594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C69B4-E4C2-425D-97F0-19975CADDD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1CC26-A7ED-4141-89A4-0D3479324D1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8D159-58AD-4C87-A8BC-77D78117CD3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F2BEA-3A58-4A96-A769-053B35702D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60F15-06CF-468D-8F2C-882C80DCAE0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BD8E1-5A97-47B4-855A-A86BC252087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329BF-6447-49BC-8E11-6FB9790D299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E75D5-06C5-4179-BC49-53B211D27C8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2728C-FB56-4738-8942-1B9D777C997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E950C-B1E7-428B-874C-4097767F36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A5581-526C-43EA-8E94-475374022D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C0ED7-0B22-4186-92BD-A4339354EF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3C567-0B32-4FD3-8B86-67F4ED7A46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506E6-6AF7-4801-8DBE-E81B7F9303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99B0F-C420-4204-943D-264BCF6EB87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FC62B-5171-405F-A435-67DA23A2A8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B2BA7-D3B9-4C1C-83D1-3177D1402D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DFB7A-AFB8-491D-9A86-5A6D99915BE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73C92-E0B9-4B01-96C6-52ED73A1A8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39F17-C96D-4897-A8D4-17B3F5CEAC1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4C01C-36DB-4A9D-8B3D-D7634868362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8B1DD-2F7B-4EA7-8775-C1C368E76A2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98091-3761-4828-9C7C-099AC3A83C4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CFBD3-F64B-4ACD-838E-F884C6B55B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B02D1-402B-4B84-BA71-2A581EA7BF6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243000" y="5526000"/>
            <a:ext cx="8820000" cy="126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rcRect l="0" t="0" r="0" b="11413"/>
          <a:stretch/>
        </p:blipFill>
        <p:spPr>
          <a:xfrm>
            <a:off x="6184800" y="122868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375000" y="2664000"/>
            <a:ext cx="534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eminário Reg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julho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360360" y="604836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38200" y="463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centual de escolas com acesso à serviços públicos por tipo de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268200" y="781200"/>
            <a:ext cx="88822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144360" y="123840"/>
            <a:ext cx="878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olíticas Públicas em Saneamento na área do In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2840" y="744480"/>
            <a:ext cx="9055080" cy="6070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2797200" y="2449440"/>
            <a:ext cx="1508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92d050"/>
                </a:solidFill>
                <a:latin typeface="Arial"/>
              </a:rPr>
              <a:t>SEA/AGEVA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513240" y="4116240"/>
            <a:ext cx="13492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035160" y="4908600"/>
            <a:ext cx="7956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163600" y="5307120"/>
            <a:ext cx="7048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846440" y="5862600"/>
            <a:ext cx="7142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481120" y="3878280"/>
            <a:ext cx="793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685880" y="4116240"/>
            <a:ext cx="9525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767040" y="5137200"/>
            <a:ext cx="55728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9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703760" y="2449440"/>
            <a:ext cx="8730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624560" y="4751280"/>
            <a:ext cx="636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418000" y="3798720"/>
            <a:ext cx="8733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878200" y="6100920"/>
            <a:ext cx="635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862520" y="5545080"/>
            <a:ext cx="7938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164360" y="3481560"/>
            <a:ext cx="1192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66680" y="6576840"/>
            <a:ext cx="1747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Fonte: INE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428760" y="0"/>
            <a:ext cx="8208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mitês de Bacias Hidro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0040" y="714240"/>
          <a:ext cx="8286840" cy="5511960"/>
        </p:xfrm>
        <a:graphic>
          <a:graphicData uri="http://schemas.openxmlformats.org/drawingml/2006/table">
            <a:tbl>
              <a:tblPr/>
              <a:tblGrid>
                <a:gridCol w="2952720"/>
                <a:gridCol w="3341880"/>
                <a:gridCol w="1992240"/>
              </a:tblGrid>
              <a:tr h="739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unicíp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Vacância da sociedade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76068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IV - Comitê Piabanh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14713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 - Comitê Baia de Guana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, Guapimirim, Cachoeiras de Macacu, Niterói, São Gonçalo, Itaboraí, Tanguá, Maricá e Rio Bon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 vagas suplente (total 15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766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 - Comitê Lagos São Jo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, Rio Bonito e Silva Jard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 vagas titular (total 18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7624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 - Comitê Rio Dois 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7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I - Comitê Macaé e Das Ost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 vagas suplente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reito a água limpa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116000" y="1311120"/>
            <a:ext cx="6059520" cy="461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ferença de condições ambientais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6240" y="1305000"/>
            <a:ext cx="65656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TRABALH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ssoas que declararam trabalhar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811080" y="1390680"/>
            <a:ext cx="72597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trabalho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590400" y="1054080"/>
            <a:ext cx="809640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61960" y="1589040"/>
          <a:ext cx="5864400" cy="4162320"/>
        </p:xfrm>
        <a:graphic>
          <a:graphicData uri="http://schemas.openxmlformats.org/drawingml/2006/table">
            <a:tbl>
              <a:tblPr/>
              <a:tblGrid>
                <a:gridCol w="1606680"/>
                <a:gridCol w="1967040"/>
                <a:gridCol w="2290680"/>
              </a:tblGrid>
              <a:tr h="108756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íp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s que trabalham em outro município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is municípios em que trabalh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8668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, Maca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6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erói e 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7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ssoas que necessitam transportar-se regularmente entre municíp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as pessoas que trabalham, quantas trabalham em outro municíp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722160" y="5892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xistência de transporte coletivo intermunicipal (20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85480" y="5892840"/>
            <a:ext cx="716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Dados primários. Levantamento da equipe Incid, junto às estações rodoviárias e empresas de transpor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43040" y="1359000"/>
          <a:ext cx="7897680" cy="3546360"/>
        </p:xfrm>
        <a:graphic>
          <a:graphicData uri="http://schemas.openxmlformats.org/drawingml/2006/table">
            <a:tbl>
              <a:tblPr/>
              <a:tblGrid>
                <a:gridCol w="1298520"/>
                <a:gridCol w="649080"/>
                <a:gridCol w="803520"/>
                <a:gridCol w="787320"/>
                <a:gridCol w="641520"/>
                <a:gridCol w="461880"/>
                <a:gridCol w="666720"/>
                <a:gridCol w="777960"/>
                <a:gridCol w="682560"/>
                <a:gridCol w="1128600"/>
              </a:tblGrid>
              <a:tr h="72396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/P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boraí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choeiras de Macac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simiro de Abre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teró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o de Janeir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7189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HABITAÇÃO/</a:t>
            </a:r>
            <a:br>
              <a:rPr sz="8000"/>
            </a:b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SANEAMENT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200160" y="1440000"/>
          <a:ext cx="8851680" cy="45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sexo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31880" y="1200240"/>
            <a:ext cx="762012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crianças fora das creche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792000" y="1457280"/>
            <a:ext cx="768204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984240" y="3816360"/>
            <a:ext cx="6800760" cy="46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457200" y="223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o acesso ao empr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stério do Trabalho – RAIS/CAG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azão de sexo no mercado de trabalho formal – 2005-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633240" y="1554120"/>
            <a:ext cx="79012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até 1 salário mí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719280" y="1816200"/>
            <a:ext cx="799776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615960" y="59040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81040" y="114768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de mais de 5 salários mínimo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58840" y="1071720"/>
            <a:ext cx="844704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DIREIT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281240" y="0"/>
            <a:ext cx="711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ndicador de transpar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428760" y="6215400"/>
            <a:ext cx="43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Dados Primários. Levantamento da equipe Incid nos sites das prefei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00040" y="714240"/>
          <a:ext cx="8143920" cy="5222880"/>
        </p:xfrm>
        <a:graphic>
          <a:graphicData uri="http://schemas.openxmlformats.org/drawingml/2006/table">
            <a:tbl>
              <a:tblPr/>
              <a:tblGrid>
                <a:gridCol w="4556160"/>
                <a:gridCol w="3587760"/>
              </a:tblGrid>
              <a:tr h="357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nidade Geográf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ível de transparê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&gt; 21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ric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ão Gonça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tabora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iteró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choeiras de Maca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ilva Jard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io Bon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 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6 a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300dc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ngu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39920" y="155520"/>
            <a:ext cx="7118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tens de comunicação com a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55800" y="1263600"/>
          <a:ext cx="7200720" cy="4905360"/>
        </p:xfrm>
        <a:graphic>
          <a:graphicData uri="http://schemas.openxmlformats.org/drawingml/2006/table">
            <a:tbl>
              <a:tblPr/>
              <a:tblGrid>
                <a:gridCol w="5951520"/>
                <a:gridCol w="1249200"/>
              </a:tblGrid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Gastos com   recursos    human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Programas e ações realizad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Despesas em execução de programas e açõ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Orçamento municipal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Gastos com Obr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Localidades de acesso aos serviç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Canais de comunicação       Ouvidoria/Fale conos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948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Teste de resposta ao canal “Fale conosco” pessoa juríd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Teste de resposta ao canal “Fale conosco” pessoa fís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Administração do patrimônio públi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Respostas às perguntas mais frequent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Serviç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t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Atual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281240" y="2052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condições básicas de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71600" y="1378080"/>
            <a:ext cx="6656400" cy="4389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ariação na proporção de domicílios com abastecimento de água inadequado – 2000/2010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268280" y="1944720"/>
            <a:ext cx="7143840" cy="35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657440" y="1292400"/>
            <a:ext cx="6151320" cy="46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463760" y="1189080"/>
            <a:ext cx="63388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gual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1347840" y="1152360"/>
            <a:ext cx="63817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à divers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84160" y="1036800"/>
            <a:ext cx="75582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aos direitos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206360" y="1182600"/>
            <a:ext cx="689472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87280" y="274680"/>
            <a:ext cx="839952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72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PARTICIPAÇÃ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1281240" y="-1440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Você faz parte de algum grupo ou organização que se reúne regularmente?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199280" cy="43527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554040" y="580860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1060560" y="187200"/>
            <a:ext cx="7340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o ou organização dos quais fazem par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511200" y="608184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82548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n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182600" y="1189080"/>
            <a:ext cx="65898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85720" y="633240"/>
            <a:ext cx="769320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br>
              <a:rPr sz="24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Domicílios por forma de abastecimento de água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95320" y="6119640"/>
            <a:ext cx="360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81040" y="1147680"/>
            <a:ext cx="816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60360" y="1800360"/>
          <a:ext cx="8280360" cy="4532040"/>
        </p:xfrm>
        <a:graphic>
          <a:graphicData uri="http://schemas.openxmlformats.org/drawingml/2006/table">
            <a:tbl>
              <a:tblPr/>
              <a:tblGrid>
                <a:gridCol w="1681200"/>
                <a:gridCol w="1098360"/>
                <a:gridCol w="1100160"/>
                <a:gridCol w="1122480"/>
                <a:gridCol w="1170000"/>
                <a:gridCol w="1006560"/>
                <a:gridCol w="1101600"/>
              </a:tblGrid>
              <a:tr h="79848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624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40.17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.9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68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34.2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.7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.9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8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66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9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8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4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5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eio ambien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969840" y="1116000"/>
            <a:ext cx="743580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1281240" y="200160"/>
            <a:ext cx="7119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garantia de dire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841320" y="871560"/>
            <a:ext cx="784548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udança social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103400" y="1030320"/>
            <a:ext cx="683424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rcRect l="0" t="0" r="0" b="-22540"/>
          <a:stretch/>
        </p:blipFill>
        <p:spPr>
          <a:xfrm>
            <a:off x="5411880" y="2252520"/>
            <a:ext cx="3201840" cy="2398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747720" y="5599080"/>
            <a:ext cx="831528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519280" y="31680"/>
            <a:ext cx="64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Variação na proporção de domicílios com inadequação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0720" y="1800360"/>
          <a:ext cx="8101080" cy="5551200"/>
        </p:xfrm>
        <a:graphic>
          <a:graphicData uri="http://schemas.openxmlformats.org/drawingml/2006/table">
            <a:tbl>
              <a:tblPr/>
              <a:tblGrid>
                <a:gridCol w="2022480"/>
                <a:gridCol w="2025720"/>
                <a:gridCol w="2025720"/>
                <a:gridCol w="2027160"/>
              </a:tblGrid>
              <a:tr h="497520">
                <a:tc rowSpan="2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gridSpan="3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a esgotamento sanit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esgotamento sanitário inadequado -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073160" y="1633680"/>
            <a:ext cx="736920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habit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a população residente em aglomerados subnor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030320" y="1633680"/>
            <a:ext cx="71388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no padrão habit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sem banheiro e com 4 banheiros ou 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07880" y="154296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coleta de lix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81040" y="1147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destino do lixo inadequado (%)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963720" y="1719360"/>
            <a:ext cx="7338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5:52:10Z</dcterms:created>
  <dc:creator>Mariana</dc:creator>
  <dc:description/>
  <dc:language>en-US</dc:language>
  <cp:lastModifiedBy>IBASE</cp:lastModifiedBy>
  <cp:lastPrinted>2012-07-20T14:21:53Z</cp:lastPrinted>
  <dcterms:modified xsi:type="dcterms:W3CDTF">2012-07-20T18:42:46Z</dcterms:modified>
  <cp:revision>195</cp:revision>
  <dc:subject/>
  <dc:title>Slide 1</dc:title>
</cp:coreProperties>
</file>