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16485224"/>
        <c:axId val="45327227"/>
      </c:barChart>
      <c:catAx>
        <c:axId val="164852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45327227"/>
        <c:crosses val="autoZero"/>
        <c:auto val="1"/>
        <c:lblAlgn val="ctr"/>
        <c:lblOffset val="100"/>
        <c:noMultiLvlLbl val="0"/>
      </c:catAx>
      <c:valAx>
        <c:axId val="45327227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16485224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0F7FC-23C2-4A1A-BD9D-FD8E985747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843D6-8F00-4A96-988B-D7DE89E81F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AC89A-D99E-4C5E-91CC-87F611C93A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0DE20-D51A-4A62-8568-2994C1EC27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21BE8-C5F7-41D2-80D4-2FC10CC02E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4D311-F0B7-4E26-A1D6-D4701A8667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E7E46-2D5A-4D1E-BEE9-5DE578E86B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B7F9F-88FD-45EB-B015-0CC1157292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C1BB7-64B6-4636-9549-3663565706C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9D7E-E0F7-493F-B98B-ACF5D9B8AA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D963-DA88-469B-8D4C-C745938C93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3629-CE7F-4286-93E4-0B5B93E914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5F1A2-178F-469F-9A3A-C94CA776B7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07804-DA45-49BA-A5A9-13261BACAE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4FAC6-40F6-4196-8C88-E7EAA7CDE1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D245F-31A9-4362-A596-57C936864C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DB40E-5C97-4151-BF59-9B0B6DB140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91F87-37E7-4AEB-98C0-61E6826276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2DEA-0904-472C-9270-8F5FF1523F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F866-AEE8-4E2A-BCA9-0F351E2EA5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9FF17-5A89-499B-949E-B6A1586380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5414C-24E4-4196-870D-0E985C84C2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0AD98-0036-4F01-89CE-EDDC3EA654C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A69E7-0D08-4E71-B449-B0F154629A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BA17B-5C23-4BDB-AC85-A6BA0229E8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CDC65-6379-4C1E-9479-8364C26433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C709-91BF-4468-8517-3EABE5A7FF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ECF61-EB84-427B-9DFE-A066A1E1B5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A08F1-E190-4268-83D3-9B55A337A0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76D01-3C46-43CE-A658-7B1E45A602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0257C-FAB4-4CBA-978C-7CE365A013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4BFAF-841F-421E-B333-B5E356A5C4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2652-AA1E-4BC0-A55A-AE0EF7BA49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C427A-C5A0-4615-8380-894EC322B5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D3BA0-B046-4948-91F4-C9E9A74F82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9DDDA-C181-40DE-9128-2E08104AA5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21F9-110E-4712-B0F9-FB04591690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CA272-8143-415D-BF24-2261C659DCD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F9A15-CC37-406D-AE2E-AF8515788C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61045-46E2-4EEB-B9D5-6A6D75630A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2387B-282D-4D65-A0DB-573CDB908A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F5241-A0DB-4F81-9518-834080F0C0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0748-6EFC-4C75-BCA1-E95A29D919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71E1-F424-4E6D-9D54-66D9D4B352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50685-0437-4E14-BAA9-C124B7BFB11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B0336-6389-4C05-9BE7-7F739BC87A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8251-5C0E-4145-A3CD-F3ED9665CC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389AD-A85B-4A29-8549-882C05F85A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