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Jovens Brancos</c:v>
                </c:pt>
              </c:strCache>
            </c:strRef>
          </c:tx>
          <c:spPr>
            <a:solidFill>
              <a:srgbClr val="579d1c"/>
            </a:solidFill>
            <a:ln w="0">
              <a:noFill/>
            </a:ln>
          </c:spPr>
          <c:invertIfNegative val="0"/>
          <c:dPt>
            <c:idx val="1"/>
            <c:invertIfNegative val="0"/>
            <c:spPr>
              <a:solidFill>
                <a:srgbClr val="579d1c"/>
              </a:solidFill>
              <a:ln w="0">
                <a:noFill/>
              </a:ln>
            </c:spPr>
          </c:dPt>
          <c:dLbls>
            <c:dLbl>
              <c:idx val="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
</c:separator>
            </c:dLbl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Estado RJ</c:v>
                </c:pt>
                <c:pt idx="1">
                  <c:v>AAI</c:v>
                </c:pt>
                <c:pt idx="2">
                  <c:v>Guapimirim</c:v>
                </c:pt>
                <c:pt idx="3">
                  <c:v>Magé</c:v>
                </c:pt>
                <c:pt idx="4">
                  <c:v>Nova Friburgo</c:v>
                </c:pt>
                <c:pt idx="5">
                  <c:v>Teresópolis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6"/>
                <c:pt idx="0">
                  <c:v>0.105817595140932</c:v>
                </c:pt>
                <c:pt idx="1">
                  <c:v>0.105448891528799</c:v>
                </c:pt>
                <c:pt idx="2">
                  <c:v>0.181654676258993</c:v>
                </c:pt>
                <c:pt idx="3">
                  <c:v>0.0894536213468869</c:v>
                </c:pt>
                <c:pt idx="4">
                  <c:v>0.117046215673141</c:v>
                </c:pt>
                <c:pt idx="5">
                  <c:v>0.13033568172399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Jovens Negros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Estado RJ</c:v>
                </c:pt>
                <c:pt idx="1">
                  <c:v>AAI</c:v>
                </c:pt>
                <c:pt idx="2">
                  <c:v>Guapimirim</c:v>
                </c:pt>
                <c:pt idx="3">
                  <c:v>Magé</c:v>
                </c:pt>
                <c:pt idx="4">
                  <c:v>Nova Friburgo</c:v>
                </c:pt>
                <c:pt idx="5">
                  <c:v>Teresópolis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6"/>
                <c:pt idx="0">
                  <c:v>0.148531485381787</c:v>
                </c:pt>
                <c:pt idx="1">
                  <c:v>0.140813705666976</c:v>
                </c:pt>
                <c:pt idx="2">
                  <c:v>0.160152008686211</c:v>
                </c:pt>
                <c:pt idx="3">
                  <c:v>0.147236302196476</c:v>
                </c:pt>
                <c:pt idx="4">
                  <c:v>0.189839572192513</c:v>
                </c:pt>
                <c:pt idx="5">
                  <c:v>0.232187070151307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Jovens fora da escola</c:v>
                </c:pt>
              </c:strCache>
            </c:strRef>
          </c:tx>
          <c:spPr>
            <a:solidFill>
              <a:srgbClr val="c5000b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6"/>
                <c:pt idx="0">
                  <c:v>Estado RJ</c:v>
                </c:pt>
                <c:pt idx="1">
                  <c:v>AAI</c:v>
                </c:pt>
                <c:pt idx="2">
                  <c:v>Guapimirim</c:v>
                </c:pt>
                <c:pt idx="3">
                  <c:v>Magé</c:v>
                </c:pt>
                <c:pt idx="4">
                  <c:v>Nova Friburgo</c:v>
                </c:pt>
                <c:pt idx="5">
                  <c:v>Teresópolis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6"/>
                <c:pt idx="0">
                  <c:v>0.131198628449302</c:v>
                </c:pt>
                <c:pt idx="1">
                  <c:v>0.125408269697823</c:v>
                </c:pt>
                <c:pt idx="2">
                  <c:v>0.167565745111261</c:v>
                </c:pt>
                <c:pt idx="3">
                  <c:v>0.129777134121812</c:v>
                </c:pt>
                <c:pt idx="4">
                  <c:v>0.138666666666667</c:v>
                </c:pt>
                <c:pt idx="5">
                  <c:v>0.173584905660377</c:v>
                </c:pt>
              </c:numCache>
            </c:numRef>
          </c:val>
        </c:ser>
        <c:gapWidth val="100"/>
        <c:overlap val="0"/>
        <c:axId val="73913886"/>
        <c:axId val="61759824"/>
      </c:barChart>
      <c:catAx>
        <c:axId val="7391388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200" spc="-1" strike="noStrike">
                <a:solidFill>
                  <a:srgbClr val="3a3935"/>
                </a:solidFill>
                <a:latin typeface="Arial"/>
              </a:defRPr>
            </a:pPr>
          </a:p>
        </c:txPr>
        <c:crossAx val="61759824"/>
        <c:crosses val="autoZero"/>
        <c:auto val="1"/>
        <c:lblAlgn val="ctr"/>
        <c:lblOffset val="100"/>
        <c:noMultiLvlLbl val="0"/>
      </c:catAx>
      <c:valAx>
        <c:axId val="61759824"/>
        <c:scaling>
          <c:orientation val="minMax"/>
          <c:max val="1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0%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200" spc="-1" strike="noStrike">
                <a:solidFill>
                  <a:srgbClr val="3a3935"/>
                </a:solidFill>
                <a:latin typeface="Arial"/>
              </a:defRPr>
            </a:pPr>
          </a:p>
        </c:txPr>
        <c:crossAx val="73913886"/>
        <c:crossesAt val="1"/>
        <c:crossBetween val="between"/>
        <c:majorUnit val="0.1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200" spc="-1" strike="noStrike">
              <a:solidFill>
                <a:srgbClr val="3a3935"/>
              </a:solidFill>
              <a:latin typeface="Arial"/>
            </a:defRPr>
          </a:pPr>
        </a:p>
      </c:txPr>
    </c:legend>
    <c:plotVisOnly val="1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"/>
          </p:nvPr>
        </p:nvSpPr>
        <p:spPr>
          <a:xfrm>
            <a:off x="3884760" y="0"/>
            <a:ext cx="29620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2640" cy="341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B90CD-8C94-46B5-AC00-CF4B405FFDF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EB6465-0B2A-4AEE-A5BB-9C041FF76CA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D9829-337D-4EE3-A20C-33CAB6E9372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42FB8-66E6-4E89-8174-6D8C2956DAE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14C3A-7E67-418D-A85F-A4BC3332CDB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958D9-5411-4555-B164-6A078A6E4FA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D6A8B-752B-452B-AD4C-FAC5E87752C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70C0B-A1AC-450E-AF34-DF3A2E579DF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8A531-26EE-4849-B34E-6AA03DD885C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EC512-7531-4C6E-900F-1F588948E5B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086BB-E28B-4324-AB0D-15F3017F26D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DCC12-7522-4C5F-BEA2-BBFFA735A5C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F6F24-22F6-406B-A94C-540217287A4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2A332-82FC-49C7-B4A0-4FD9D0DA105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AED06-658D-43CB-AE63-4C51FA04EE6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488DE-6FFB-4DAF-9816-2E3DD967305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766A4-6070-4628-8E95-1B9B3B5808D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B1F3A-F1FD-4CDD-BC22-E61D5784EAC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06A11-79C7-4D4F-8EBF-78653A9EA77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1FE39-A74E-47BB-8778-28BD51CAE53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4657C-7360-4605-8D2E-A963CFDB025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449A02-1109-4D8D-9098-A1E8F2BE366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C2C69-7789-4AE2-9DDE-35C82F93B12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62E46-6063-42BB-8CBE-6107F916C7A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3ABAC-87F6-4058-82F1-C8221A3D461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40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71474-3187-4519-8DF2-64AE5D95514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869AD-2214-450A-B535-02CA45670CF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4DF1C-63E5-4B32-AC46-AED0C6E35F2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5D27F-6CFD-4F68-9527-921D5B7C3D0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E43E7-168B-4A90-9EE3-D49DD0274B8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67C5F-5E3B-4DD1-ABD2-06FE4BBEAE2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EAC4B5-CE0D-4128-8FFC-CF2FF325A43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09068-27BF-4BF0-A2F1-70ED5391449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666EB-040E-4AF0-A781-E0739ABF469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BC81A-4019-452D-BAF8-CC8F1E81C73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77643-6976-4954-ADB0-7EC42B16D29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E6C62-F8F1-41E8-A162-1122B1DC824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274B1-AF98-49E4-98B5-CC4704CE86A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A03F5-77EF-4F94-9B54-39C9CDAD3BC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7554E-0A42-4BF2-8406-74F0A3A71EA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C209E-0687-4C2B-A245-F03A3B44D72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0CB63-A4AB-4084-BCE5-D4BC0A3E03D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  <a:ea typeface="DejaVu Sans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4F98F-C1D0-44F4-8E6E-930F2C4D862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E3B4A-C666-4E71-A2C0-600C88D99CB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409FA-75D0-4C44-9737-AADA98198A5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4D270-7162-46DF-AA27-FC66EAA76A7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06473-44AE-44B6-B57A-BA539151779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5AE33-3597-4CF6-8D4E-B2BD5E2BD5F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67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5960" y="15998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67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5960" y="6146640"/>
            <a:ext cx="26467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61466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599840"/>
            <a:ext cx="401112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6146640"/>
            <a:ext cx="8220240" cy="415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6970680" cy="535320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tretch/>
        </p:blipFill>
        <p:spPr>
          <a:xfrm>
            <a:off x="243000" y="5526000"/>
            <a:ext cx="8820000" cy="1262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4"/>
          <a:srcRect l="0" t="0" r="0" b="11413"/>
          <a:stretch/>
        </p:blipFill>
        <p:spPr>
          <a:xfrm>
            <a:off x="6184800" y="1228680"/>
            <a:ext cx="2428920" cy="13143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3375000" y="2664000"/>
            <a:ext cx="53452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1624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Seminário Region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ts val="1624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julho 20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rcRect l="0" t="0" r="0" b="11425"/>
          <a:stretch/>
        </p:blipFill>
        <p:spPr>
          <a:xfrm>
            <a:off x="7672320" y="6199200"/>
            <a:ext cx="941400" cy="509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398520" y="6508800"/>
            <a:ext cx="591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SEMINÁRIO REGIONAL INCID (INDICADORES DA CIDADANIA) – GUAPIMIRIM, MAGÉ, NOVA FRIBURGO E TERESÓPOL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rcRect l="0" t="0" r="0" b="11425"/>
          <a:stretch/>
        </p:blipFill>
        <p:spPr>
          <a:xfrm>
            <a:off x="7672320" y="6199200"/>
            <a:ext cx="941400" cy="5094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398520" y="6508800"/>
            <a:ext cx="591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SEMINÁRIO REGIONAL INCID (INDICADORES DA CIDADANIA) – GUAPIMIRIM, MAGÉ, NOVA FRIBURGO E TERESÓPOL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2"/>
          <a:srcRect l="0" t="0" r="0" b="11425"/>
          <a:stretch/>
        </p:blipFill>
        <p:spPr>
          <a:xfrm>
            <a:off x="7672320" y="6199200"/>
            <a:ext cx="941400" cy="509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398520" y="6508800"/>
            <a:ext cx="591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SEMINÁRIO REGIONAL INCID (INDICADORES DA CIDADANIA) – GUAPIMIRIM, MAGÉ, NOVA FRIBURGO E TERESÓPOL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4930920" y="6478560"/>
            <a:ext cx="368748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2"/>
          <a:srcRect l="0" t="0" r="0" b="11425"/>
          <a:stretch/>
        </p:blipFill>
        <p:spPr>
          <a:xfrm>
            <a:off x="7672320" y="6199200"/>
            <a:ext cx="941400" cy="5094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398520" y="6508800"/>
            <a:ext cx="591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Calibri"/>
              </a:rPr>
              <a:t>SEMINÁRIO REGIONAL INCID (INDICADORES DA CIDADANIA) – GUAPIMIRIM, MAGÉ, NOVA FRIBURGO E TERESÓPOLI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0240" cy="87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360360" y="6048360"/>
            <a:ext cx="41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538200" y="463680"/>
            <a:ext cx="81691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rcentual de escolas com acesso à serviços públicos por tipo de serviç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268200" y="781200"/>
            <a:ext cx="888228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"/>
          <p:cNvSpPr/>
          <p:nvPr/>
        </p:nvSpPr>
        <p:spPr>
          <a:xfrm>
            <a:off x="144360" y="123840"/>
            <a:ext cx="8783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Políticas Públicas em Saneamento na área do Inc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42840" y="744480"/>
            <a:ext cx="9055080" cy="607068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3"/>
          <p:cNvSpPr/>
          <p:nvPr/>
        </p:nvSpPr>
        <p:spPr>
          <a:xfrm>
            <a:off x="2797200" y="2449440"/>
            <a:ext cx="150804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92d050"/>
                </a:solidFill>
                <a:latin typeface="Arial"/>
              </a:rPr>
              <a:t>SEA/AGEVAP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3513240" y="4116240"/>
            <a:ext cx="13492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d99694"/>
                </a:solidFill>
                <a:latin typeface="Arial"/>
              </a:rPr>
              <a:t>PSA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3035160" y="4908600"/>
            <a:ext cx="7956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300" spc="-1" strike="noStrike">
                <a:solidFill>
                  <a:srgbClr val="e46c0a"/>
                </a:solidFill>
                <a:latin typeface="Arial"/>
              </a:rPr>
              <a:t>PS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2163600" y="5307120"/>
            <a:ext cx="7048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200" spc="-1" strike="noStrike">
                <a:solidFill>
                  <a:srgbClr val="e46c0a"/>
                </a:solidFill>
                <a:latin typeface="Arial"/>
              </a:rPr>
              <a:t>PS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1846440" y="5862600"/>
            <a:ext cx="71424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000" spc="-1" strike="noStrike">
                <a:solidFill>
                  <a:srgbClr val="e46c0a"/>
                </a:solidFill>
                <a:latin typeface="Arial"/>
              </a:rPr>
              <a:t>PSA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8"/>
          <p:cNvSpPr/>
          <p:nvPr/>
        </p:nvSpPr>
        <p:spPr>
          <a:xfrm>
            <a:off x="2481120" y="3878280"/>
            <a:ext cx="7938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300" spc="-1" strike="noStrike">
                <a:solidFill>
                  <a:srgbClr val="d99694"/>
                </a:solidFill>
                <a:latin typeface="Arial"/>
              </a:rPr>
              <a:t>PS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9"/>
          <p:cNvSpPr/>
          <p:nvPr/>
        </p:nvSpPr>
        <p:spPr>
          <a:xfrm>
            <a:off x="1685880" y="4116240"/>
            <a:ext cx="95256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d99694"/>
                </a:solidFill>
                <a:latin typeface="Arial"/>
              </a:rPr>
              <a:t>PSAM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3767040" y="5137200"/>
            <a:ext cx="55728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900" spc="-1" strike="noStrike">
                <a:solidFill>
                  <a:srgbClr val="d99694"/>
                </a:solidFill>
                <a:latin typeface="Arial"/>
              </a:rPr>
              <a:t>PSA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4703760" y="2449440"/>
            <a:ext cx="87300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c000"/>
                </a:solidFill>
                <a:latin typeface="Arial"/>
              </a:rPr>
              <a:t>P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4624560" y="4751280"/>
            <a:ext cx="6364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ffc000"/>
                </a:solidFill>
                <a:latin typeface="Arial"/>
              </a:rPr>
              <a:t>PAC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5418000" y="3798720"/>
            <a:ext cx="87336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c00000"/>
                </a:solidFill>
                <a:latin typeface="Arial"/>
              </a:rPr>
              <a:t>CB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2878200" y="6100920"/>
            <a:ext cx="63504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500" spc="-1" strike="noStrike">
                <a:solidFill>
                  <a:srgbClr val="ffc000"/>
                </a:solidFill>
                <a:latin typeface="Arial"/>
              </a:rPr>
              <a:t>PAC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4862520" y="5545080"/>
            <a:ext cx="79380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c00000"/>
                </a:solidFill>
                <a:latin typeface="Arial"/>
              </a:rPr>
              <a:t>CB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7164360" y="3481560"/>
            <a:ext cx="119232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CB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17"/>
          <p:cNvSpPr/>
          <p:nvPr/>
        </p:nvSpPr>
        <p:spPr>
          <a:xfrm>
            <a:off x="166680" y="6576840"/>
            <a:ext cx="174780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Fonte: INE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"/>
          <p:cNvSpPr/>
          <p:nvPr/>
        </p:nvSpPr>
        <p:spPr>
          <a:xfrm>
            <a:off x="428760" y="0"/>
            <a:ext cx="82087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Comitês de Bacias Hidrográf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500040" y="714240"/>
          <a:ext cx="8286840" cy="5511960"/>
        </p:xfrm>
        <a:graphic>
          <a:graphicData uri="http://schemas.openxmlformats.org/drawingml/2006/table">
            <a:tbl>
              <a:tblPr/>
              <a:tblGrid>
                <a:gridCol w="2952720"/>
                <a:gridCol w="3341880"/>
                <a:gridCol w="1992240"/>
              </a:tblGrid>
              <a:tr h="73980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unicíp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Vacância da sociedade civi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76068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IV - Comitê Piabanh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eresópol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 vaga titular (total 9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147132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V - Comitê Baia de Guanaba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agé, Guapimirim, Cachoeiras de Macacu, Niterói, São Gonçalo, Itaboraí, Tanguá, Maricá e Rio Boni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9 vagas suplente (total 15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76680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VI - Comitê Lagos São Jo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aquarema, Rio Bonito e Silva Jardi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2 vagas titular (total 18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7624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VII - Comitê Rio Dois 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ova Fribur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1 vaga titular (total 9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  <a:tr h="897120"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egião Hidrográfica  VIII - Comitê Macaé e Das Ostr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asimiro de Abre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  <a:tc>
                  <a:txBody>
                    <a:bodyPr lIns="8640" rIns="8640" tIns="864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3 vagas suplente (total 9 vaga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640" marR="86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Direito a água limpa (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1116000" y="1311120"/>
            <a:ext cx="6059520" cy="461340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3"/>
          <p:cNvSpPr/>
          <p:nvPr/>
        </p:nvSpPr>
        <p:spPr>
          <a:xfrm>
            <a:off x="669960" y="587700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Diferença de condições ambientais (%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669960" y="587700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1146240" y="1305000"/>
            <a:ext cx="6565680" cy="43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457200" y="274680"/>
            <a:ext cx="822960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80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TRABALHO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"/>
          <p:cNvSpPr/>
          <p:nvPr/>
        </p:nvSpPr>
        <p:spPr>
          <a:xfrm>
            <a:off x="538200" y="463680"/>
            <a:ext cx="81691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ssoas que declararam trabalhar (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868320" y="595476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811080" y="1390680"/>
            <a:ext cx="725976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"/>
          <p:cNvSpPr/>
          <p:nvPr/>
        </p:nvSpPr>
        <p:spPr>
          <a:xfrm>
            <a:off x="538200" y="463680"/>
            <a:ext cx="816912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 de trabalho (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2"/>
          <p:cNvSpPr/>
          <p:nvPr/>
        </p:nvSpPr>
        <p:spPr>
          <a:xfrm>
            <a:off x="868320" y="595476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3" descr=""/>
          <p:cNvPicPr/>
          <p:nvPr/>
        </p:nvPicPr>
        <p:blipFill>
          <a:blip r:embed="rId1"/>
          <a:stretch/>
        </p:blipFill>
        <p:spPr>
          <a:xfrm>
            <a:off x="590400" y="1054080"/>
            <a:ext cx="8096400" cy="471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1461960" y="1589040"/>
          <a:ext cx="5864400" cy="4162320"/>
        </p:xfrm>
        <a:graphic>
          <a:graphicData uri="http://schemas.openxmlformats.org/drawingml/2006/table">
            <a:tbl>
              <a:tblPr/>
              <a:tblGrid>
                <a:gridCol w="1606680"/>
                <a:gridCol w="1967040"/>
                <a:gridCol w="2290680"/>
              </a:tblGrid>
              <a:tr h="108756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unicípi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ssoas que trabalham em outro município (%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incipais municípios em que trabalha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</a:tr>
              <a:tr h="86688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uapimiri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o de Janeiro, Duque de Caxi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gé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o de Janeiro, Duque de Caxias, Macaé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a Friburg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o de Janei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4600"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esópol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2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" rIns="6840" tIns="82800" bIns="0" anchor="ctr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terói e Rio de Janeir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2" name="Text Box 17"/>
          <p:cNvSpPr/>
          <p:nvPr/>
        </p:nvSpPr>
        <p:spPr>
          <a:xfrm>
            <a:off x="503280" y="392040"/>
            <a:ext cx="8393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Calibri"/>
              </a:rPr>
              <a:t>Pessoas que necessitam transportar-se regularmente entre municípi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18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e as pessoas que trabalham, quantas trabalham em outro municípi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19"/>
          <p:cNvSpPr/>
          <p:nvPr/>
        </p:nvSpPr>
        <p:spPr>
          <a:xfrm>
            <a:off x="722160" y="5892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1"/>
          <p:cNvSpPr/>
          <p:nvPr/>
        </p:nvSpPr>
        <p:spPr>
          <a:xfrm>
            <a:off x="503280" y="392040"/>
            <a:ext cx="83930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0" anchor="ctr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Existência de transporte coletivo intermunicipal (201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2"/>
          <p:cNvSpPr/>
          <p:nvPr/>
        </p:nvSpPr>
        <p:spPr>
          <a:xfrm>
            <a:off x="285480" y="5892840"/>
            <a:ext cx="716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Fonte: Dados primários. Levantamento da equipe Incid, junto às estações rodoviárias e empresas de transpor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743040" y="1359000"/>
          <a:ext cx="7897680" cy="3546360"/>
        </p:xfrm>
        <a:graphic>
          <a:graphicData uri="http://schemas.openxmlformats.org/drawingml/2006/table">
            <a:tbl>
              <a:tblPr/>
              <a:tblGrid>
                <a:gridCol w="1298520"/>
                <a:gridCol w="649080"/>
                <a:gridCol w="803520"/>
                <a:gridCol w="787320"/>
                <a:gridCol w="641520"/>
                <a:gridCol w="461880"/>
                <a:gridCol w="666720"/>
                <a:gridCol w="777960"/>
                <a:gridCol w="682560"/>
                <a:gridCol w="1128600"/>
              </a:tblGrid>
              <a:tr h="72396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</a:t>
                      </a: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/PA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taboraí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uapimirim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choeiras de Macacu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simiro de Abreu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gé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a Friburg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esópoli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iterói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io de Janeiro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</a:tr>
              <a:tr h="71892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UAPIMIRI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748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GÉ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928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A FRIBURG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6720">
                <a:tc>
                  <a:txBody>
                    <a:bodyPr lIns="5760" rIns="5760" tIns="709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ESÓPOL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a5c26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114120" bIns="0" anchor="b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1"/>
          <p:cNvSpPr/>
          <p:nvPr/>
        </p:nvSpPr>
        <p:spPr>
          <a:xfrm>
            <a:off x="457200" y="274680"/>
            <a:ext cx="822960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80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HABITAÇÃO/</a:t>
            </a:r>
            <a:br>
              <a:rPr sz="8000"/>
            </a:br>
            <a:r>
              <a:rPr b="1" lang="pt-BR" sz="80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SANEAMENTO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538200" y="463680"/>
            <a:ext cx="81691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rção de jovens de 15 a 17 anos fora das escolas, segundo raça/etnia -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904680" y="5954760"/>
            <a:ext cx="66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Censo demográfico, 2010 (IBGE) – Cidadania Garant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0" name="Object 3"/>
          <p:cNvGraphicFramePr/>
          <p:nvPr/>
        </p:nvGraphicFramePr>
        <p:xfrm>
          <a:off x="200160" y="1440000"/>
          <a:ext cx="8851680" cy="450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1"/>
          <p:cNvSpPr/>
          <p:nvPr/>
        </p:nvSpPr>
        <p:spPr>
          <a:xfrm>
            <a:off x="538200" y="463680"/>
            <a:ext cx="81691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rção de jovens de 15 a 17 anos fora das escolas, segundo sexo -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904680" y="5954760"/>
            <a:ext cx="66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Censo demográfico, 2010 (IBGE) – Cidadania Garant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1"/>
          <a:stretch/>
        </p:blipFill>
        <p:spPr>
          <a:xfrm>
            <a:off x="731880" y="1200240"/>
            <a:ext cx="7620120" cy="46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1"/>
          <p:cNvSpPr/>
          <p:nvPr/>
        </p:nvSpPr>
        <p:spPr>
          <a:xfrm>
            <a:off x="538200" y="463680"/>
            <a:ext cx="816912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porção de crianças fora das creches, segundo raça/etnia - 2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904680" y="5954760"/>
            <a:ext cx="66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Censo demográfico, 2010 (IBGE) – Cidadania Garant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792000" y="1457280"/>
            <a:ext cx="7682040" cy="44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1" descr=""/>
          <p:cNvPicPr/>
          <p:nvPr/>
        </p:nvPicPr>
        <p:blipFill>
          <a:blip r:embed="rId1"/>
          <a:stretch/>
        </p:blipFill>
        <p:spPr>
          <a:xfrm>
            <a:off x="984240" y="3816360"/>
            <a:ext cx="6800760" cy="46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2"/>
          <p:cNvSpPr/>
          <p:nvPr/>
        </p:nvSpPr>
        <p:spPr>
          <a:xfrm>
            <a:off x="457200" y="223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Desigualdade de gênero no acesso ao empr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906480" y="564840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nistério do Trabalho – RAIS/CAG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Razão de sexo no mercado de trabalho formal – 2005-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5" descr=""/>
          <p:cNvPicPr/>
          <p:nvPr/>
        </p:nvPicPr>
        <p:blipFill>
          <a:blip r:embed="rId2"/>
          <a:stretch/>
        </p:blipFill>
        <p:spPr>
          <a:xfrm>
            <a:off x="633240" y="1554120"/>
            <a:ext cx="790128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1"/>
          <p:cNvSpPr/>
          <p:nvPr/>
        </p:nvSpPr>
        <p:spPr>
          <a:xfrm>
            <a:off x="341280" y="279360"/>
            <a:ext cx="8345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Desigualdade de gênero na renda do trabalho -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2"/>
          <p:cNvSpPr/>
          <p:nvPr/>
        </p:nvSpPr>
        <p:spPr>
          <a:xfrm>
            <a:off x="906480" y="564840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BGE -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581040" y="1147680"/>
            <a:ext cx="81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orção de trabalhadores formais segundo o sexo na faixa de rendimento até 1 salário míni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4" descr=""/>
          <p:cNvPicPr/>
          <p:nvPr/>
        </p:nvPicPr>
        <p:blipFill>
          <a:blip r:embed="rId1"/>
          <a:stretch/>
        </p:blipFill>
        <p:spPr>
          <a:xfrm>
            <a:off x="719280" y="1816200"/>
            <a:ext cx="799776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341280" y="279360"/>
            <a:ext cx="8345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  <a:ea typeface="Arial Unicode MS"/>
              </a:rPr>
              <a:t>Desigualdade de gênero na renda do trabalho -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2"/>
          <p:cNvSpPr/>
          <p:nvPr/>
        </p:nvSpPr>
        <p:spPr>
          <a:xfrm>
            <a:off x="615960" y="590400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BGE -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581040" y="1147680"/>
            <a:ext cx="816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porção de trabalhadores formais segundo o sexo na faixa de rendimento de mais de 5 salários mínimo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258840" y="1071720"/>
            <a:ext cx="8447040" cy="48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457200" y="274680"/>
            <a:ext cx="822960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80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DIREITO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1"/>
          <p:cNvSpPr/>
          <p:nvPr/>
        </p:nvSpPr>
        <p:spPr>
          <a:xfrm>
            <a:off x="1281240" y="0"/>
            <a:ext cx="7119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ndicador de transparê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428760" y="6215400"/>
            <a:ext cx="4330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Dados Primários. Levantamento da equipe Incid nos sites das prefei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00040" y="714240"/>
          <a:ext cx="8143920" cy="5222880"/>
        </p:xfrm>
        <a:graphic>
          <a:graphicData uri="http://schemas.openxmlformats.org/drawingml/2006/table">
            <a:tbl>
              <a:tblPr/>
              <a:tblGrid>
                <a:gridCol w="4556160"/>
                <a:gridCol w="3587760"/>
              </a:tblGrid>
              <a:tr h="3574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Unidade Geográfica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bd5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ível de transparência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4bd5e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---------------------------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&gt; 21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AG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aric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44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ão Gonçal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87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aquare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3016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asimiro de Abre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Itabora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99ff"/>
                    </a:solidFill>
                  </a:tcPr>
                </a:tc>
              </a:tr>
              <a:tr h="2844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iteró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achoeiras de Macac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394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ilva Jard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3840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ERESÓPOL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OVA FRIBUR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3524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Rio Boni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47ff"/>
                    </a:solidFill>
                  </a:tcPr>
                </a:tc>
              </a:tr>
              <a:tr h="2887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  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-----------------------------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06 a 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300dc"/>
                    </a:solidFill>
                  </a:tcPr>
                </a:tc>
              </a:tr>
              <a:tr h="3398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GUAPIMIR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0099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Tanguá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Arial Unicode MS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2800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1339920" y="155520"/>
            <a:ext cx="71182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tens de comunicação com a popul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955800" y="1263600"/>
          <a:ext cx="7200720" cy="4905360"/>
        </p:xfrm>
        <a:graphic>
          <a:graphicData uri="http://schemas.openxmlformats.org/drawingml/2006/table">
            <a:tbl>
              <a:tblPr/>
              <a:tblGrid>
                <a:gridCol w="5951520"/>
                <a:gridCol w="1249200"/>
              </a:tblGrid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em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bd5e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s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4bd5e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Gastos com   recursos    humano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Programas e ações realizada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Despesas em execução de programas e açõe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Orçamento municipal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Gastos com Obra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 Localidades de acesso aos serviço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 Canais de comunicação       Ouvidoria/Fale conosc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3948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 Teste de resposta ao canal “Fale conosco” pessoa jurídica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 Teste de resposta ao canal “Fale conosco” pessoa física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 Administração do patrimônio públic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 Respostas às perguntas mais frequentes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Serviços disponibilizados pelo site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atos disponibilizados pelo site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325800">
                <a:tc>
                  <a:txBody>
                    <a:bodyPr lIns="8280" rIns="8280" tIns="84240" bIns="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 Atualização</a:t>
                      </a: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8280" rIns="8280" tIns="84240" bIns="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1281240" y="20520"/>
            <a:ext cx="7119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reito a condições básicas de v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1371600" y="1378080"/>
            <a:ext cx="6656400" cy="43894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3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ág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581040" y="1147680"/>
            <a:ext cx="81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Variação na proporção de domicílios com abastecimento de água inadequado – 2000/2010 (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1268280" y="1944720"/>
            <a:ext cx="7143840" cy="359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 Box 1"/>
          <p:cNvSpPr/>
          <p:nvPr/>
        </p:nvSpPr>
        <p:spPr>
          <a:xfrm>
            <a:off x="1281240" y="233280"/>
            <a:ext cx="71197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reito a educação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1657440" y="1292400"/>
            <a:ext cx="6151320" cy="46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1281240" y="233280"/>
            <a:ext cx="71197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reito a saúde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1463760" y="1189080"/>
            <a:ext cx="6338880" cy="468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guald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1347840" y="1152360"/>
            <a:ext cx="6381720" cy="41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espeito à diversid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884160" y="1036800"/>
            <a:ext cx="755820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espeito aos direitos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3" descr=""/>
          <p:cNvPicPr/>
          <p:nvPr/>
        </p:nvPicPr>
        <p:blipFill>
          <a:blip r:embed="rId1"/>
          <a:stretch/>
        </p:blipFill>
        <p:spPr>
          <a:xfrm>
            <a:off x="1206360" y="1182600"/>
            <a:ext cx="689472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1"/>
          <p:cNvSpPr/>
          <p:nvPr/>
        </p:nvSpPr>
        <p:spPr>
          <a:xfrm>
            <a:off x="287280" y="274680"/>
            <a:ext cx="839952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7200" spc="-1" strike="noStrike">
                <a:solidFill>
                  <a:srgbClr val="717b2f"/>
                </a:solidFill>
                <a:latin typeface="Arial Unicode MS"/>
                <a:ea typeface="Arial Unicode MS"/>
              </a:rPr>
              <a:t>PARTICIPAÇÃ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1281240" y="-14400"/>
            <a:ext cx="7119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Você faz parte de algum grupo ou organização que se reúne regularmente?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987480" y="1359000"/>
            <a:ext cx="7199280" cy="43527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"/>
          <p:cNvSpPr/>
          <p:nvPr/>
        </p:nvSpPr>
        <p:spPr>
          <a:xfrm>
            <a:off x="554040" y="5808600"/>
            <a:ext cx="5316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"/>
          <p:cNvSpPr/>
          <p:nvPr/>
        </p:nvSpPr>
        <p:spPr>
          <a:xfrm>
            <a:off x="1060560" y="187200"/>
            <a:ext cx="73404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Grupo ou organização dos quais fazem parte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511200" y="6081840"/>
            <a:ext cx="5316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444600" y="890640"/>
            <a:ext cx="825480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na educação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3" descr=""/>
          <p:cNvPicPr/>
          <p:nvPr/>
        </p:nvPicPr>
        <p:blipFill>
          <a:blip r:embed="rId1"/>
          <a:stretch/>
        </p:blipFill>
        <p:spPr>
          <a:xfrm>
            <a:off x="1182600" y="1189080"/>
            <a:ext cx="658980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e saúde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3" descr=""/>
          <p:cNvPicPr/>
          <p:nvPr/>
        </p:nvPicPr>
        <p:blipFill>
          <a:blip r:embed="rId1"/>
          <a:stretch/>
        </p:blipFill>
        <p:spPr>
          <a:xfrm>
            <a:off x="585720" y="633240"/>
            <a:ext cx="7693200" cy="538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457200" y="684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água</a:t>
            </a:r>
            <a:br>
              <a:rPr sz="32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onstrução do Indicador</a:t>
            </a:r>
            <a:br>
              <a:rPr sz="2400"/>
            </a:b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 Domicílios por forma de abastecimento de água – 2000/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895320" y="6119640"/>
            <a:ext cx="360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81040" y="1147680"/>
            <a:ext cx="81691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60360" y="1800360"/>
          <a:ext cx="8280360" cy="4532040"/>
        </p:xfrm>
        <a:graphic>
          <a:graphicData uri="http://schemas.openxmlformats.org/drawingml/2006/table">
            <a:tbl>
              <a:tblPr/>
              <a:tblGrid>
                <a:gridCol w="1681200"/>
                <a:gridCol w="1098360"/>
                <a:gridCol w="1100160"/>
                <a:gridCol w="1122480"/>
                <a:gridCol w="1170000"/>
                <a:gridCol w="1006560"/>
                <a:gridCol w="1101600"/>
              </a:tblGrid>
              <a:tr h="798480"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e da Federação e Municípi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6240"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e ger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ço ou nascente (na propriedade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 form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e ger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ço ou nascente (na propriedade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ra form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8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DE JANEIR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40.17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.9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68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34.24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5.79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.93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570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 DO COMPERJ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.82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05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8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.78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66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99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8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PIMIRIM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3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9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76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5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1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8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É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11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68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9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23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24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91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570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 FRIBURG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.51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79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4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.99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9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3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408240">
                <a:tc>
                  <a:txBody>
                    <a:bodyPr lIns="36000" rIns="36000" tIns="209880" bIns="36000" anchor="ctr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ESÓPOLI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36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38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5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78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6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0" rIns="36000" tIns="209880" bIns="36000" anchor="ctr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2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e meio ambiente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969840" y="1116000"/>
            <a:ext cx="7435800" cy="47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1281240" y="200160"/>
            <a:ext cx="711972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e garantia de direi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841320" y="871560"/>
            <a:ext cx="7845480" cy="498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1"/>
          <p:cNvSpPr/>
          <p:nvPr/>
        </p:nvSpPr>
        <p:spPr>
          <a:xfrm>
            <a:off x="1281240" y="301680"/>
            <a:ext cx="7119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articipação e mudança social (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777960" y="5973840"/>
            <a:ext cx="47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nte: Pesquisa Incid – Cidadania Perceb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3" descr=""/>
          <p:cNvPicPr/>
          <p:nvPr/>
        </p:nvPicPr>
        <p:blipFill>
          <a:blip r:embed="rId1"/>
          <a:stretch/>
        </p:blipFill>
        <p:spPr>
          <a:xfrm>
            <a:off x="1103400" y="1030320"/>
            <a:ext cx="683424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" descr=""/>
          <p:cNvPicPr/>
          <p:nvPr/>
        </p:nvPicPr>
        <p:blipFill>
          <a:blip r:embed="rId1"/>
          <a:srcRect l="0" t="0" r="0" b="-22540"/>
          <a:stretch/>
        </p:blipFill>
        <p:spPr>
          <a:xfrm>
            <a:off x="5411880" y="2252520"/>
            <a:ext cx="3201840" cy="23986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6970680" cy="53532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3" descr=""/>
          <p:cNvPicPr/>
          <p:nvPr/>
        </p:nvPicPr>
        <p:blipFill>
          <a:blip r:embed="rId3"/>
          <a:stretch/>
        </p:blipFill>
        <p:spPr>
          <a:xfrm>
            <a:off x="747720" y="5599080"/>
            <a:ext cx="8315280" cy="1189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2519280" y="31680"/>
            <a:ext cx="64803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água</a:t>
            </a:r>
            <a:br>
              <a:rPr sz="32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Construção do Indic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  <a:ea typeface="Arial Unicode MS"/>
              </a:rPr>
              <a:t>2. Variação na proporção de domicílios com inadequação – 2000/20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720720" y="1800360"/>
          <a:ext cx="8101080" cy="5551200"/>
        </p:xfrm>
        <a:graphic>
          <a:graphicData uri="http://schemas.openxmlformats.org/drawingml/2006/table">
            <a:tbl>
              <a:tblPr/>
              <a:tblGrid>
                <a:gridCol w="2022480"/>
                <a:gridCol w="2025720"/>
                <a:gridCol w="2025720"/>
                <a:gridCol w="2027160"/>
              </a:tblGrid>
              <a:tr h="497520">
                <a:tc rowSpan="2"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e da Federação e Municíp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 gridSpan="3"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DEQUA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4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ct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 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DE JANEI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 DO COMPER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APIMIRI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  <a:tr h="69228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A FRIBURG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</a:tr>
              <a:tr h="497520">
                <a:tc>
                  <a:txBody>
                    <a:bodyPr lIns="90000" rIns="90000" tIns="255600" bIns="46800" anchor="t">
                      <a:noAutofit/>
                    </a:bodyPr>
                    <a:p>
                      <a:pPr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ESÓPOL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0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55600" bIns="46800" anchor="t">
                      <a:noAutofit/>
                    </a:bodyPr>
                    <a:p>
                      <a:pPr algn="r">
                        <a:lnSpc>
                          <a:spcPct val="7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a esgotamento sanitá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porção de domicílios com esgotamento sanitário inadequado -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1073160" y="1633680"/>
            <a:ext cx="7369200" cy="37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habitaçã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porção da população residente em aglomerados subnormais –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1"/>
          <a:stretch/>
        </p:blipFill>
        <p:spPr>
          <a:xfrm>
            <a:off x="1030320" y="1633680"/>
            <a:ext cx="713880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Desigualdade no padrão habit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581040" y="1147680"/>
            <a:ext cx="816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porção de domicílios sem banheiro e com 4 banheiros ou mais –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407880" y="1542960"/>
            <a:ext cx="8613720" cy="41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4d19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  <a:ea typeface="Arial Unicode MS"/>
              </a:rPr>
              <a:t>Acesso à coleta de lix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906480" y="5648400"/>
            <a:ext cx="36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Fonte: IBGE – Censo Demográf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581040" y="1147680"/>
            <a:ext cx="81691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roporção de domicílios com destino do lixo inadequado (%) –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963720" y="1719360"/>
            <a:ext cx="7338960" cy="377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5:52:10Z</dcterms:created>
  <dc:creator>Mariana</dc:creator>
  <dc:description/>
  <dc:language>en-US</dc:language>
  <cp:lastModifiedBy>IBASE</cp:lastModifiedBy>
  <cp:lastPrinted>2012-07-20T14:21:53Z</cp:lastPrinted>
  <dcterms:modified xsi:type="dcterms:W3CDTF">2012-07-20T18:42:46Z</dcterms:modified>
  <cp:revision>195</cp:revision>
  <dc:subject/>
  <dc:title>Slide 1</dc:title>
</cp:coreProperties>
</file>