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Jovens Brancos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
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105817595140932</c:v>
                </c:pt>
                <c:pt idx="1">
                  <c:v>0.105448891528799</c:v>
                </c:pt>
                <c:pt idx="2">
                  <c:v>0.181654676258993</c:v>
                </c:pt>
                <c:pt idx="3">
                  <c:v>0.0894536213468869</c:v>
                </c:pt>
                <c:pt idx="4">
                  <c:v>0.117046215673141</c:v>
                </c:pt>
                <c:pt idx="5">
                  <c:v>0.13033568172399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Jovens Negros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0.148531485381787</c:v>
                </c:pt>
                <c:pt idx="1">
                  <c:v>0.140813705666976</c:v>
                </c:pt>
                <c:pt idx="2">
                  <c:v>0.160152008686211</c:v>
                </c:pt>
                <c:pt idx="3">
                  <c:v>0.147236302196476</c:v>
                </c:pt>
                <c:pt idx="4">
                  <c:v>0.189839572192513</c:v>
                </c:pt>
                <c:pt idx="5">
                  <c:v>0.23218707015130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Jovens fora da escola</c:v>
                </c:pt>
              </c:strCache>
            </c:strRef>
          </c:tx>
          <c:spPr>
            <a:solidFill>
              <a:srgbClr val="c5000b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  <c:pt idx="0">
                  <c:v>0.131198628449302</c:v>
                </c:pt>
                <c:pt idx="1">
                  <c:v>0.125408269697823</c:v>
                </c:pt>
                <c:pt idx="2">
                  <c:v>0.167565745111261</c:v>
                </c:pt>
                <c:pt idx="3">
                  <c:v>0.129777134121812</c:v>
                </c:pt>
                <c:pt idx="4">
                  <c:v>0.138666666666667</c:v>
                </c:pt>
                <c:pt idx="5">
                  <c:v>0.173584905660377</c:v>
                </c:pt>
              </c:numCache>
            </c:numRef>
          </c:val>
        </c:ser>
        <c:gapWidth val="100"/>
        <c:overlap val="0"/>
        <c:axId val="4790881"/>
        <c:axId val="89002917"/>
      </c:barChart>
      <c:catAx>
        <c:axId val="479088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89002917"/>
        <c:crosses val="autoZero"/>
        <c:auto val="1"/>
        <c:lblAlgn val="ctr"/>
        <c:lblOffset val="100"/>
        <c:noMultiLvlLbl val="0"/>
      </c:catAx>
      <c:valAx>
        <c:axId val="89002917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4790881"/>
        <c:crossesAt val="1"/>
        <c:crossBetween val="between"/>
        <c:majorUnit val="0.1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3a3935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78548-89DB-4B35-92D9-C793A4CF8E4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20002-E008-4450-B671-1FBD9994058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25091-4B97-4473-B456-9D08F3D9A93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4D10E-8AC5-4EFC-A6C6-C2D0450E5FF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96EE1-069E-4147-9CA7-0D18F549613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DD540-583D-4213-B1F0-249A2740045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80CEC-9998-4658-9503-FBF1E9E97BC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FC22E-141F-43F0-A7F6-3BA868BAEFA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50F1B-A281-43C7-A698-7C91262482E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DF85C-7012-499C-AAC1-988C319823A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84B60-EA36-4E59-9722-E9671D88848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34C53-65C2-4CDC-8882-8F478F6851F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12436-0E31-4864-96B4-41D6F105BD8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E7941-3C25-4B94-8B91-7C90D9582D5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28D23-18E3-4378-8C76-2B307168E55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80722-1F2A-467E-ABAC-4DD1A2534D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61D49-E003-4467-BFD7-42E7454E625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C6084-96E8-4255-9386-36D4ED643EF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21FCF-6DFF-4AE2-8225-86B3BAC9C59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0864E-7E46-4440-BBF6-D9A3A5934CE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97F88-0310-4B76-88E2-D67F9124AD8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CF28F-44A6-4697-ABBC-12F6A27C34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3DB84-6D68-47DF-8707-1054B4AB54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2D09C-81CF-435B-AF41-B046202598A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369E3-6827-4F1D-8F14-A80F9AD5B9A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9E06B-AA8F-4E6C-8C47-F2979EC7F73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AA39F-ED34-4B4E-A8F6-35BEA03C81C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5BFB3-708E-45F1-B325-2AF953E5819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02D7D-9451-4C42-A314-B40C51FCB3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6ABC0-9084-4E69-8771-7FBA8BEC352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AA722-AE69-4001-9E62-98499B4CA9E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F976A-6A04-46A6-AF38-6503C22525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CF824-606A-4E68-AE71-30EB765AB58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93B9B-B7D2-4A41-92C2-264D6FA91C4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2439E-819B-438B-B2EB-0359F0E6601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9A5E4-60BE-448D-876C-7159E945B7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E52E5-1A2E-407D-B0E2-2CD2E71B037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2BFEA-754F-4BBC-AE1D-12B84BCC570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6BFDF-638C-4574-A1D3-3D192EB4C5E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3E209-5817-4FD6-8C24-C37F17DD1F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7062E-48EE-4160-A035-C874CD76F32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953D9-494D-4AE8-B754-A67CBF88CB9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D1F24-EE8B-467C-81CF-589504F0D20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A34FF-BCC9-41EA-B81F-01FE706CD43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D9F6E-6ADC-4E62-B939-F2334F91B50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CBF81-6277-4065-8ECA-D54E55AAE8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AD2AA-B7CF-4642-8717-4C196B1EF3A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7F204-9ABF-4F23-A0E4-1A89DF9C5A5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243000" y="5526000"/>
            <a:ext cx="8820000" cy="1262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rcRect l="0" t="0" r="0" b="11413"/>
          <a:stretch/>
        </p:blipFill>
        <p:spPr>
          <a:xfrm>
            <a:off x="6184800" y="1228680"/>
            <a:ext cx="242892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375000" y="2664000"/>
            <a:ext cx="5345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eminário Reg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julho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360360" y="604836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538200" y="463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centual de escolas com acesso à serviços públicos por tipo de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268200" y="781200"/>
            <a:ext cx="88822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144360" y="123840"/>
            <a:ext cx="8783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olíticas Públicas em Saneamento na área do In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2840" y="744480"/>
            <a:ext cx="9055080" cy="60706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2797200" y="2449440"/>
            <a:ext cx="1508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92d050"/>
                </a:solidFill>
                <a:latin typeface="Arial"/>
              </a:rPr>
              <a:t>SEA/AGEVA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513240" y="4116240"/>
            <a:ext cx="13492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3035160" y="4908600"/>
            <a:ext cx="7956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163600" y="5307120"/>
            <a:ext cx="7048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846440" y="5862600"/>
            <a:ext cx="7142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481120" y="3878280"/>
            <a:ext cx="793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1685880" y="4116240"/>
            <a:ext cx="9525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3767040" y="5137200"/>
            <a:ext cx="55728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9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703760" y="2449440"/>
            <a:ext cx="8730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4624560" y="4751280"/>
            <a:ext cx="6364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418000" y="3798720"/>
            <a:ext cx="8733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878200" y="6100920"/>
            <a:ext cx="635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4862520" y="5545080"/>
            <a:ext cx="7938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7164360" y="3481560"/>
            <a:ext cx="1192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166680" y="6576840"/>
            <a:ext cx="1747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Fonte: INE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428760" y="0"/>
            <a:ext cx="8208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omitês de Bacias Hidro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00040" y="714240"/>
          <a:ext cx="8286840" cy="5511960"/>
        </p:xfrm>
        <a:graphic>
          <a:graphicData uri="http://schemas.openxmlformats.org/drawingml/2006/table">
            <a:tbl>
              <a:tblPr/>
              <a:tblGrid>
                <a:gridCol w="2952720"/>
                <a:gridCol w="3341880"/>
                <a:gridCol w="1992240"/>
              </a:tblGrid>
              <a:tr h="739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unicíp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Vacância da sociedade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76068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IV - Comitê Piabanh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14713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 - Comitê Baia de Guanab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, Guapimirim, Cachoeiras de Macacu, Niterói, São Gonçalo, Itaboraí, Tanguá, Maricá e Rio Bon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 vagas suplente (total 15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766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 - Comitê Lagos São Jo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, Rio Bonito e Silva Jard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 vagas titular (total 18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7624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 - Comitê Rio Dois 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7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I - Comitê Macaé e Das Ost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 vagas suplente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reito a água limpa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116000" y="1311120"/>
            <a:ext cx="6059520" cy="461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ferença de condições ambientais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6240" y="1305000"/>
            <a:ext cx="65656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TRABALH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ssoas que declararam trabalhar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811080" y="1390680"/>
            <a:ext cx="72597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e trabalho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590400" y="1054080"/>
            <a:ext cx="809640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61960" y="1589040"/>
          <a:ext cx="5864400" cy="4162320"/>
        </p:xfrm>
        <a:graphic>
          <a:graphicData uri="http://schemas.openxmlformats.org/drawingml/2006/table">
            <a:tbl>
              <a:tblPr/>
              <a:tblGrid>
                <a:gridCol w="1606680"/>
                <a:gridCol w="1967040"/>
                <a:gridCol w="2290680"/>
              </a:tblGrid>
              <a:tr h="108756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nicíp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soas que trabalham em outro município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ais municípios em que trabalh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8668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, Maca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46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erói e 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17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ssoas que necessitam transportar-se regularmente entre municíp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as pessoas que trabalham, quantas trabalham em outro municíp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722160" y="5892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xistência de transporte coletivo intermunicipal (20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285480" y="5892840"/>
            <a:ext cx="716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Dados primários. Levantamento da equipe Incid, junto às estações rodoviárias e empresas de transpor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43040" y="1359000"/>
          <a:ext cx="7897680" cy="3546360"/>
        </p:xfrm>
        <a:graphic>
          <a:graphicData uri="http://schemas.openxmlformats.org/drawingml/2006/table">
            <a:tbl>
              <a:tblPr/>
              <a:tblGrid>
                <a:gridCol w="1298520"/>
                <a:gridCol w="649080"/>
                <a:gridCol w="803520"/>
                <a:gridCol w="787320"/>
                <a:gridCol w="641520"/>
                <a:gridCol w="461880"/>
                <a:gridCol w="666720"/>
                <a:gridCol w="777960"/>
                <a:gridCol w="682560"/>
                <a:gridCol w="1128600"/>
              </a:tblGrid>
              <a:tr h="72396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/P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boraí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choeiras de Macac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simiro de Abre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teró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o de Janeir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7189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HABITAÇÃO/</a:t>
            </a:r>
            <a:br>
              <a:rPr sz="8000"/>
            </a:b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SANEAMENT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200160" y="1440000"/>
          <a:ext cx="8851680" cy="45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sexo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731880" y="1200240"/>
            <a:ext cx="762012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crianças fora das creche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792000" y="1457280"/>
            <a:ext cx="7682040" cy="44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984240" y="3816360"/>
            <a:ext cx="6800760" cy="46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"/>
          <p:cNvSpPr/>
          <p:nvPr/>
        </p:nvSpPr>
        <p:spPr>
          <a:xfrm>
            <a:off x="457200" y="223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o acesso ao empr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stério do Trabalho – RAIS/CAG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azão de sexo no mercado de trabalho formal – 2005-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633240" y="1554120"/>
            <a:ext cx="79012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até 1 salário mín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719280" y="1816200"/>
            <a:ext cx="799776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615960" y="59040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581040" y="1147680"/>
            <a:ext cx="81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de mais de 5 salários mínimo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58840" y="1071720"/>
            <a:ext cx="844704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DIREIT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1281240" y="0"/>
            <a:ext cx="711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ndicador de transpar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428760" y="6215400"/>
            <a:ext cx="43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Dados Primários. Levantamento da equipe Incid nos sites das prefei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00040" y="714240"/>
          <a:ext cx="8143920" cy="5222880"/>
        </p:xfrm>
        <a:graphic>
          <a:graphicData uri="http://schemas.openxmlformats.org/drawingml/2006/table">
            <a:tbl>
              <a:tblPr/>
              <a:tblGrid>
                <a:gridCol w="4556160"/>
                <a:gridCol w="3587760"/>
              </a:tblGrid>
              <a:tr h="357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nidade Geográf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ível de transparênc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&gt; 21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ric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ão Gonça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tabora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iteró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choeiras de Maca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ilva Jard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io Bon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 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6 a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300dc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angu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339920" y="155520"/>
            <a:ext cx="7118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tens de comunicação com a popul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55800" y="1263600"/>
          <a:ext cx="7200720" cy="4905360"/>
        </p:xfrm>
        <a:graphic>
          <a:graphicData uri="http://schemas.openxmlformats.org/drawingml/2006/table">
            <a:tbl>
              <a:tblPr/>
              <a:tblGrid>
                <a:gridCol w="5951520"/>
                <a:gridCol w="1249200"/>
              </a:tblGrid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Gastos com   recursos    human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Programas e ações realizad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Despesas em execução de programas e açõ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Orçamento municipal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Gastos com Obr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Localidades de acesso aos serviç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Canais de comunicação       Ouvidoria/Fale conos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3948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Teste de resposta ao canal “Fale conosco” pessoa juríd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Teste de resposta ao canal “Fale conosco” pessoa fís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Administração do patrimônio públi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Respostas às perguntas mais frequent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Serviç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t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Atual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281240" y="2052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condições básicas de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371600" y="1378080"/>
            <a:ext cx="6656400" cy="4389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ariação na proporção de domicílios com abastecimento de água inadequado – 2000/2010 (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268280" y="1944720"/>
            <a:ext cx="7143840" cy="35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657440" y="1292400"/>
            <a:ext cx="6151320" cy="46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463760" y="1189080"/>
            <a:ext cx="633888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gual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1347840" y="1152360"/>
            <a:ext cx="638172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à divers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84160" y="1036800"/>
            <a:ext cx="755820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aos direitos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206360" y="1182600"/>
            <a:ext cx="689472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287280" y="274680"/>
            <a:ext cx="839952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72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PARTICIPAÇÃ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1281240" y="-1440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Você faz parte de algum grupo ou organização que se reúne regularmente?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987480" y="1359000"/>
            <a:ext cx="7199280" cy="43527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554040" y="580860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1060560" y="187200"/>
            <a:ext cx="7340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rupo ou organização dos quais fazem par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511200" y="608184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825480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n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182600" y="1189080"/>
            <a:ext cx="65898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85720" y="633240"/>
            <a:ext cx="769320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br>
              <a:rPr sz="24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Domicílios por forma de abastecimento de água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95320" y="6119640"/>
            <a:ext cx="360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81040" y="1147680"/>
            <a:ext cx="816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60360" y="1800360"/>
          <a:ext cx="8280360" cy="4532040"/>
        </p:xfrm>
        <a:graphic>
          <a:graphicData uri="http://schemas.openxmlformats.org/drawingml/2006/table">
            <a:tbl>
              <a:tblPr/>
              <a:tblGrid>
                <a:gridCol w="1681200"/>
                <a:gridCol w="1098360"/>
                <a:gridCol w="1100160"/>
                <a:gridCol w="1122480"/>
                <a:gridCol w="1170000"/>
                <a:gridCol w="1006560"/>
                <a:gridCol w="1101600"/>
              </a:tblGrid>
              <a:tr h="79848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624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40.17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.9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68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34.24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.7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.9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8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0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66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9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9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8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4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5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9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9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6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eio ambien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969840" y="1116000"/>
            <a:ext cx="743580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1281240" y="200160"/>
            <a:ext cx="7119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garantia de direi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841320" y="871560"/>
            <a:ext cx="784548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udança social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103400" y="1030320"/>
            <a:ext cx="683424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rcRect l="0" t="0" r="0" b="-22540"/>
          <a:stretch/>
        </p:blipFill>
        <p:spPr>
          <a:xfrm>
            <a:off x="5411880" y="2252520"/>
            <a:ext cx="3201840" cy="2398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747720" y="5599080"/>
            <a:ext cx="8315280" cy="11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519280" y="31680"/>
            <a:ext cx="648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Variação na proporção de domicílios com inadequação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20720" y="1800360"/>
          <a:ext cx="8101080" cy="5551200"/>
        </p:xfrm>
        <a:graphic>
          <a:graphicData uri="http://schemas.openxmlformats.org/drawingml/2006/table">
            <a:tbl>
              <a:tblPr/>
              <a:tblGrid>
                <a:gridCol w="2022480"/>
                <a:gridCol w="2025720"/>
                <a:gridCol w="2025720"/>
                <a:gridCol w="2027160"/>
              </a:tblGrid>
              <a:tr h="497520">
                <a:tc rowSpan="2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gridSpan="3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a esgotamento sanitá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esgotamento sanitário inadequado -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073160" y="1633680"/>
            <a:ext cx="736920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habit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a população residente em aglomerados subnor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030320" y="1633680"/>
            <a:ext cx="713880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no padrão habit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sem banheiro e com 4 banheiros ou 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07880" y="154296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coleta de lix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81040" y="1147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destino do lixo inadequado (%)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963720" y="1719360"/>
            <a:ext cx="73389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5:52:10Z</dcterms:created>
  <dc:creator>Mariana</dc:creator>
  <dc:description/>
  <dc:language>en-US</dc:language>
  <cp:lastModifiedBy>IBASE</cp:lastModifiedBy>
  <cp:lastPrinted>2012-07-20T14:21:53Z</cp:lastPrinted>
  <dcterms:modified xsi:type="dcterms:W3CDTF">2012-07-20T18:42:46Z</dcterms:modified>
  <cp:revision>195</cp:revision>
  <dc:subject/>
  <dc:title>Slide 1</dc:title>
</cp:coreProperties>
</file>