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Jovens Brancos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05817595140932</c:v>
                </c:pt>
                <c:pt idx="1">
                  <c:v>0.105448891528799</c:v>
                </c:pt>
                <c:pt idx="2">
                  <c:v>0.181654676258993</c:v>
                </c:pt>
                <c:pt idx="3">
                  <c:v>0.0894536213468869</c:v>
                </c:pt>
                <c:pt idx="4">
                  <c:v>0.117046215673141</c:v>
                </c:pt>
                <c:pt idx="5">
                  <c:v>0.13033568172399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Jovens Negros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148531485381787</c:v>
                </c:pt>
                <c:pt idx="1">
                  <c:v>0.140813705666976</c:v>
                </c:pt>
                <c:pt idx="2">
                  <c:v>0.160152008686211</c:v>
                </c:pt>
                <c:pt idx="3">
                  <c:v>0.147236302196476</c:v>
                </c:pt>
                <c:pt idx="4">
                  <c:v>0.189839572192513</c:v>
                </c:pt>
                <c:pt idx="5">
                  <c:v>0.23218707015130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Jovens fora da escola</c:v>
                </c:pt>
              </c:strCache>
            </c:strRef>
          </c:tx>
          <c:spPr>
            <a:solidFill>
              <a:srgbClr val="c5000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.131198628449302</c:v>
                </c:pt>
                <c:pt idx="1">
                  <c:v>0.125408269697823</c:v>
                </c:pt>
                <c:pt idx="2">
                  <c:v>0.167565745111261</c:v>
                </c:pt>
                <c:pt idx="3">
                  <c:v>0.129777134121812</c:v>
                </c:pt>
                <c:pt idx="4">
                  <c:v>0.138666666666667</c:v>
                </c:pt>
                <c:pt idx="5">
                  <c:v>0.173584905660377</c:v>
                </c:pt>
              </c:numCache>
            </c:numRef>
          </c:val>
        </c:ser>
        <c:gapWidth val="100"/>
        <c:overlap val="0"/>
        <c:axId val="50088463"/>
        <c:axId val="54644171"/>
      </c:barChart>
      <c:catAx>
        <c:axId val="5008846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54644171"/>
        <c:crosses val="autoZero"/>
        <c:auto val="1"/>
        <c:lblAlgn val="ctr"/>
        <c:lblOffset val="100"/>
        <c:noMultiLvlLbl val="0"/>
      </c:catAx>
      <c:valAx>
        <c:axId val="54644171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50088463"/>
        <c:crossesAt val="1"/>
        <c:crossBetween val="between"/>
        <c:majorUnit val="0.1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3a3935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95A1D-D609-4334-B1A0-436A475073D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3F4D-DF0C-48BC-A5EE-4C560281BE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94563-8800-40D0-B21B-61D51635B48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1EC32-5257-4680-AC86-E20B85F99C1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D06FB-B1E6-47B9-8C1B-1A84551D13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19234-020A-4686-A243-26FF3027B6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E3B7-A06F-4802-8A6F-8BDD190E50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60324-6F3B-4E67-8DF7-0AE05596147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A6689-12AE-4496-ABF4-63FF5920B10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6D3F1-E8B9-4486-A057-BD0A0436535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C401D-1BD4-48C5-9F48-61F80CDC2E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10C6F-D0C3-4707-8826-7E09C92C6A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18A7F-5F89-4A22-805B-1C2A2DD631B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38044-52D8-4DD1-A433-ED1B7AE64E2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988E5-9466-4514-B3DF-A797070F6D4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E29F6-4F6C-45B2-8BEF-D121FB23DC2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00F60-2FB3-4CB8-B8E9-C5C6C74F25F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DAD43-2694-472D-892C-7116AC1191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9A68A-C1FB-4E3D-B9A7-187FC6BA0A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48910-5DC9-4FCC-8CA1-87BDF172956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97BDF-919E-488A-B525-79405A640B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64C9E-670D-43E5-B9E8-A714D6ACCEE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A59D2-664D-4C07-866D-C6771A59D8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A5299-33E1-4256-A488-7D28B1C6F67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965EB-11FD-467C-877A-D699B06145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5A108-0AF1-45B7-BF1C-54C15B60350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E311B-524A-4DA1-AA10-591EFCDF3DF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3E1CF-B4B0-4182-BA9B-A19A3A08F65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CBCB3-C8CC-4028-B57F-7BA9345BE9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172DD-9EDD-4337-8AA4-3D5AEA17C7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8957F-A8FC-4C10-AD6F-DD3685113CA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77FB6-9B99-42CE-A8B8-D734CF7A561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12361-041F-4B7B-AE28-667A526E42D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A832A-D1BD-410C-90E2-A347C0D2FC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811C7-F33B-4510-974F-3827F05ED20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8742E-6201-4110-940B-59B4B4427B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35099-011B-43E0-A8E7-4AA8FFE0A0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855C3-6C67-40FE-8C75-7AC7006B3A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AD745-AAFB-4FB8-8C0D-FC62EA3027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9FE20-FE10-4750-9195-AE4924CF0E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67A36-CED8-40BA-AA92-1CA415A2DD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4ED20-2BDA-421C-AC3E-923D1591AE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BB40C-D350-45A0-82C4-5E2EEAF02E8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C5A52-F6AE-45FD-82E5-A51D014C73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3678B-E014-427D-AA17-57CCD2A8EE9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DEDA7-F8EB-4DE5-B907-73C62B776F8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86106-2A11-45AE-8E25-10B3519716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0FE46-672F-4F1E-A177-F3CCB8160D4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243000" y="5526000"/>
            <a:ext cx="882000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rcRect l="0" t="0" r="0" b="11413"/>
          <a:stretch/>
        </p:blipFill>
        <p:spPr>
          <a:xfrm>
            <a:off x="6184800" y="122868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375000" y="2664000"/>
            <a:ext cx="534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eminário Reg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ulho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360360" y="604836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8200" y="463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centual de escolas com acesso à serviços públicos por tipo de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268200" y="781200"/>
            <a:ext cx="88822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44360" y="123840"/>
            <a:ext cx="878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olíticas Públicas em Saneamento na área do In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2840" y="744480"/>
            <a:ext cx="9055080" cy="6070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797200" y="2449440"/>
            <a:ext cx="1508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92d050"/>
                </a:solidFill>
                <a:latin typeface="Arial"/>
              </a:rPr>
              <a:t>SEA/AGEVA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513240" y="4116240"/>
            <a:ext cx="13492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035160" y="4908600"/>
            <a:ext cx="7956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63600" y="5307120"/>
            <a:ext cx="704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846440" y="5862600"/>
            <a:ext cx="7142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481120" y="3878280"/>
            <a:ext cx="793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685880" y="4116240"/>
            <a:ext cx="9525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767040" y="5137200"/>
            <a:ext cx="55728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9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703760" y="2449440"/>
            <a:ext cx="8730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624560" y="4751280"/>
            <a:ext cx="636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418000" y="3798720"/>
            <a:ext cx="873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878200" y="6100920"/>
            <a:ext cx="635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862520" y="5545080"/>
            <a:ext cx="7938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164360" y="3481560"/>
            <a:ext cx="1192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66680" y="6576840"/>
            <a:ext cx="1747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Fonte: INE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428760" y="0"/>
            <a:ext cx="8208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itês de Bacias Hidr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0040" y="714240"/>
          <a:ext cx="8286840" cy="5511960"/>
        </p:xfrm>
        <a:graphic>
          <a:graphicData uri="http://schemas.openxmlformats.org/drawingml/2006/table">
            <a:tbl>
              <a:tblPr/>
              <a:tblGrid>
                <a:gridCol w="2952720"/>
                <a:gridCol w="3341880"/>
                <a:gridCol w="1992240"/>
              </a:tblGrid>
              <a:tr h="739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unicí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acância da sociedade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76068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IV - Comitê Piabanh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1471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 - Comitê Baia de Guana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, Guapimirim, Cachoeiras de Macacu, Niterói, São Gonçalo, Itaboraí, Tanguá, Maricá e Rio Bon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 vagas suplente (total 15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766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 - Comitê Lagos São Jo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, Rio Bonito e Silva Jard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vagas titular (total 18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7624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 - Comitê Rio Dois 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7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I - Comitê Macaé e Das Ost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 vagas suplente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reito a água limpa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116000" y="1311120"/>
            <a:ext cx="6059520" cy="461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erença de condições ambientais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6240" y="1305000"/>
            <a:ext cx="6565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TRABALH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ssoas que declararam trabalhar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811080" y="1390680"/>
            <a:ext cx="72597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balho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590400" y="1054080"/>
            <a:ext cx="809640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61960" y="1589040"/>
          <a:ext cx="5864400" cy="4162320"/>
        </p:xfrm>
        <a:graphic>
          <a:graphicData uri="http://schemas.openxmlformats.org/drawingml/2006/table">
            <a:tbl>
              <a:tblPr/>
              <a:tblGrid>
                <a:gridCol w="1606680"/>
                <a:gridCol w="1967040"/>
                <a:gridCol w="2290680"/>
              </a:tblGrid>
              <a:tr h="108756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íp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s que trabalham em outro município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is municípios em que trabalh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8668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, Maca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6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erói e 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7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ssoas que necessitam transportar-se regularmente entre municíp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as pessoas que trabalham, quantas trabalham em outro municíp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722160" y="5892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istência de transporte coletivo intermunicipal (20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85480" y="5892840"/>
            <a:ext cx="716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Dados primários. Levantamento da equipe Incid, junto às estações rodoviárias e empresas de transpor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43040" y="1359000"/>
          <a:ext cx="7897680" cy="3546360"/>
        </p:xfrm>
        <a:graphic>
          <a:graphicData uri="http://schemas.openxmlformats.org/drawingml/2006/table">
            <a:tbl>
              <a:tblPr/>
              <a:tblGrid>
                <a:gridCol w="1298520"/>
                <a:gridCol w="649080"/>
                <a:gridCol w="803520"/>
                <a:gridCol w="787320"/>
                <a:gridCol w="641520"/>
                <a:gridCol w="461880"/>
                <a:gridCol w="666720"/>
                <a:gridCol w="777960"/>
                <a:gridCol w="682560"/>
                <a:gridCol w="1128600"/>
              </a:tblGrid>
              <a:tr h="72396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/P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boraí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choeiras de Macac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simiro de Abre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teró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 de Janeir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7189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HABITAÇÃO/</a:t>
            </a:r>
            <a:br>
              <a:rPr sz="8000"/>
            </a:b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SANEAMENT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00160" y="1440000"/>
          <a:ext cx="885168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sexo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31880" y="1200240"/>
            <a:ext cx="76201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crianças fora das creche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792000" y="1457280"/>
            <a:ext cx="76820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984240" y="3816360"/>
            <a:ext cx="6800760" cy="46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223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o acesso ao empr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stério do Trabalho – RAIS/CAG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azão de sexo no mercado de trabalho formal – 2005-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633240" y="1554120"/>
            <a:ext cx="7901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até 1 salário mí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719280" y="1816200"/>
            <a:ext cx="79977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615960" y="59040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81040" y="114768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de mais de 5 salários mínimo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58840" y="1071720"/>
            <a:ext cx="844704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DIREI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281240" y="0"/>
            <a:ext cx="711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ndicador de transpar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428760" y="6215400"/>
            <a:ext cx="43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Dados Primários. Levantamento da equipe Incid nos sites das prefei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00040" y="714240"/>
          <a:ext cx="8143920" cy="5222880"/>
        </p:xfrm>
        <a:graphic>
          <a:graphicData uri="http://schemas.openxmlformats.org/drawingml/2006/table">
            <a:tbl>
              <a:tblPr/>
              <a:tblGrid>
                <a:gridCol w="4556160"/>
                <a:gridCol w="3587760"/>
              </a:tblGrid>
              <a:tr h="357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nidade Geográf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ível de transparê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&gt; 21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ric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ão Gonça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tabora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iteró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choeiras de Maca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ilva Jard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io Bon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6 a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300dc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ngu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39920" y="155520"/>
            <a:ext cx="7118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tens de comunicação com a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55800" y="1263600"/>
          <a:ext cx="7200720" cy="4905360"/>
        </p:xfrm>
        <a:graphic>
          <a:graphicData uri="http://schemas.openxmlformats.org/drawingml/2006/table">
            <a:tbl>
              <a:tblPr/>
              <a:tblGrid>
                <a:gridCol w="5951520"/>
                <a:gridCol w="1249200"/>
              </a:tblGrid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Gastos com   recursos    human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Programas e ações realizad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Despesas em execução de programas e açõ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Orçamento municip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Gastos com Obr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Localidades de acesso aos serviç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Canais de comunicação       Ouvidoria/Fale conos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948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Teste de resposta ao canal “Fale conosco” pessoa juríd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Teste de resposta ao canal “Fale conosco” pessoa fís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Administração do patrimônio públi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Respostas às perguntas mais frequent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Serviç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t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Atual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281240" y="2052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condições básicas d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656400" cy="4389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ariação na proporção de domicílios com abastecimento de água inadequado – 2000/2010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268280" y="1944720"/>
            <a:ext cx="7143840" cy="35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657440" y="1292400"/>
            <a:ext cx="6151320" cy="46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463760" y="1189080"/>
            <a:ext cx="63388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gual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1347840" y="1152360"/>
            <a:ext cx="6381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à divers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84160" y="1036800"/>
            <a:ext cx="75582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aos direitos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206360" y="1182600"/>
            <a:ext cx="6894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87280" y="274680"/>
            <a:ext cx="839952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PARTICIPAÇÃ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1281240" y="-1440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Você faz parte de algum grupo ou organização que se reúne regularmente?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199280" cy="4352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554040" y="580860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060560" y="187200"/>
            <a:ext cx="7340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o ou organização dos quais fazem par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511200" y="608184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82548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n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182600" y="1189080"/>
            <a:ext cx="65898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769320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br>
              <a:rPr sz="24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Domicílios por forma de abastecimento de água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95320" y="6119640"/>
            <a:ext cx="360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81040" y="1147680"/>
            <a:ext cx="816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60360" y="1800360"/>
          <a:ext cx="8280360" cy="4532040"/>
        </p:xfrm>
        <a:graphic>
          <a:graphicData uri="http://schemas.openxmlformats.org/drawingml/2006/table">
            <a:tbl>
              <a:tblPr/>
              <a:tblGrid>
                <a:gridCol w="1681200"/>
                <a:gridCol w="1098360"/>
                <a:gridCol w="1100160"/>
                <a:gridCol w="1122480"/>
                <a:gridCol w="1170000"/>
                <a:gridCol w="1006560"/>
                <a:gridCol w="1101600"/>
              </a:tblGrid>
              <a:tr h="79848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624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0.17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.9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68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34.2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7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.9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8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9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8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eio ambien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969840" y="1116000"/>
            <a:ext cx="74358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281240" y="200160"/>
            <a:ext cx="7119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garantia de dire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841320" y="871560"/>
            <a:ext cx="784548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udança social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103400" y="1030320"/>
            <a:ext cx="683424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rcRect l="0" t="0" r="0" b="-22540"/>
          <a:stretch/>
        </p:blipFill>
        <p:spPr>
          <a:xfrm>
            <a:off x="5411880" y="2252520"/>
            <a:ext cx="3201840" cy="2398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747720" y="5599080"/>
            <a:ext cx="831528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519280" y="31680"/>
            <a:ext cx="64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Variação na proporção de domicílios com inadequação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0720" y="1800360"/>
          <a:ext cx="8101080" cy="5551200"/>
        </p:xfrm>
        <a:graphic>
          <a:graphicData uri="http://schemas.openxmlformats.org/drawingml/2006/table">
            <a:tbl>
              <a:tblPr/>
              <a:tblGrid>
                <a:gridCol w="2022480"/>
                <a:gridCol w="2025720"/>
                <a:gridCol w="2025720"/>
                <a:gridCol w="2027160"/>
              </a:tblGrid>
              <a:tr h="497520">
                <a:tc rowSpan="2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gridSpan="3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a esgotamento sanit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esgotamento sanitário inadequado -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073160" y="1633680"/>
            <a:ext cx="736920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habi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a população residente em aglomerados subnor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030320" y="1633680"/>
            <a:ext cx="71388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no padrão habit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sem banheiro e com 4 banheiros ou 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07880" y="154296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coleta de li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81040" y="1147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destino do lixo inadequado (%)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963720" y="1719360"/>
            <a:ext cx="7338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5:52:10Z</dcterms:created>
  <dc:creator>Mariana</dc:creator>
  <dc:description/>
  <dc:language>en-US</dc:language>
  <cp:lastModifiedBy>IBASE</cp:lastModifiedBy>
  <cp:lastPrinted>2012-07-20T14:21:53Z</cp:lastPrinted>
  <dcterms:modified xsi:type="dcterms:W3CDTF">2012-07-20T18:42:46Z</dcterms:modified>
  <cp:revision>195</cp:revision>
  <dc:subject/>
  <dc:title>Slide 1</dc:title>
</cp:coreProperties>
</file>