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54576704"/>
        <c:axId val="63317824"/>
      </c:barChart>
      <c:catAx>
        <c:axId val="545767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63317824"/>
        <c:crosses val="autoZero"/>
        <c:auto val="1"/>
        <c:lblAlgn val="ctr"/>
        <c:lblOffset val="100"/>
        <c:noMultiLvlLbl val="0"/>
      </c:catAx>
      <c:valAx>
        <c:axId val="63317824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54576704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936BC-26CA-4F82-ACBA-2A159FFA20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C58DD-B9F2-4DEE-97B9-A27EE69020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D503B-477E-40C1-9412-CCC288B2C4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36088-9E8B-4A84-92FE-ACA3F2BC95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003E8-C62E-471E-BFD4-C74C9612E6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ED73-915C-428A-ADE8-6F312FBBD5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55BE6-4415-4571-9A19-BAD8494962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DD396-ED17-49CA-998F-12AA2B6ED5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3F94-69AD-49F5-87FD-111DF6B267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9E294-2D67-48A0-B19B-7783EA3F2C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4862E-9042-4270-83EF-54A6E6EBE5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C9F93-16D2-4B76-ACDB-A42CF824E5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A45C7-FE3A-4E7D-9E5C-8843B491FB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C50D8-1CEE-449C-851A-9D0B011EC0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1B0FC-7CD2-431F-A960-041A998ACE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8B634-3990-4694-A680-5B07661074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947CD-BF2B-4D12-810C-A5A4DB6E68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669BB-345B-42B5-B26A-CF09FA837B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B8E3C-C62F-48BE-AC92-F9C6B62C05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910F6-BC81-46CA-B601-53D0E4ADBA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E1B93-DD9C-429D-971B-7BF915E680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4B19A-D7D5-4F37-9F09-3C614BFCEE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72251-2728-4199-BAA3-F97234B505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AA920-5489-401D-B66A-A7B80A37F9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CC75F-A47D-4B61-8A18-D45E3B55613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073BE-A77D-4464-B858-3064F98735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B2BDF-1D69-4278-B300-CC31987B9B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0EB52-75E8-42A0-BFFE-53AE6AF386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6D3A7-E0E7-43CB-B4EB-B23D1C6783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92A43-01B3-4622-90FC-6AB60B776D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6EBA-49C2-449E-8594-908063DE46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396D-FF06-42B6-A002-BA7DE75910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B50B6-4BDA-4CDA-8C2C-D03D97968B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EEF54-7B45-459D-8F9C-2820933A3AD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2209-0014-4708-B950-9356938180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89708-18C8-4A9A-9064-A74AEF1FAB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C28D2-9017-458F-823B-286E04EDDB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D9CCC-E15B-4614-9887-C1F30A6A3F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09DDF-0ACB-498F-B982-B2B9040953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E804C-D5E1-4539-9C38-2715ED4610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EC5AB-33DF-44D2-BC21-C48ABB6D9D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36391-ABB4-4DB6-B20F-830DE2739B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31A53-87E4-4079-A8E2-E2B1B507715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2D396-C2E8-4BCF-981F-644352137D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83492-CD9F-4DD8-8740-F3F7908F13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E9ED9-4BCF-4A0A-9173-6D906345C8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DBEF4-3D1E-4405-9167-4452628D30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F9B5A-C5FC-406A-8526-4937DE3B18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