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Jovens Brancos</c:v>
                </c:pt>
              </c:strCache>
            </c:strRef>
          </c:tx>
          <c:spPr>
            <a:solidFill>
              <a:srgbClr val="579d1c"/>
            </a:solidFill>
            <a:ln w="0">
              <a:noFill/>
            </a:ln>
          </c:spPr>
          <c:invertIfNegative val="0"/>
          <c:dPt>
            <c:idx val="1"/>
            <c:invertIfNegative val="0"/>
            <c:spPr>
              <a:solidFill>
                <a:srgbClr val="579d1c"/>
              </a:solidFill>
              <a:ln w="0">
                <a:noFill/>
              </a:ln>
            </c:spPr>
          </c:dPt>
          <c:dLbls>
            <c:dLbl>
              <c:idx val="1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
</c:separator>
            </c:dLbl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Estado RJ</c:v>
                </c:pt>
                <c:pt idx="1">
                  <c:v>AAI</c:v>
                </c:pt>
                <c:pt idx="2">
                  <c:v>Guapimirim</c:v>
                </c:pt>
                <c:pt idx="3">
                  <c:v>Magé</c:v>
                </c:pt>
                <c:pt idx="4">
                  <c:v>Nova Friburgo</c:v>
                </c:pt>
                <c:pt idx="5">
                  <c:v>Teresópoli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0.105817595140932</c:v>
                </c:pt>
                <c:pt idx="1">
                  <c:v>0.105448891528799</c:v>
                </c:pt>
                <c:pt idx="2">
                  <c:v>0.181654676258993</c:v>
                </c:pt>
                <c:pt idx="3">
                  <c:v>0.0894536213468869</c:v>
                </c:pt>
                <c:pt idx="4">
                  <c:v>0.117046215673141</c:v>
                </c:pt>
                <c:pt idx="5">
                  <c:v>0.13033568172399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Jovens Negros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Estado RJ</c:v>
                </c:pt>
                <c:pt idx="1">
                  <c:v>AAI</c:v>
                </c:pt>
                <c:pt idx="2">
                  <c:v>Guapimirim</c:v>
                </c:pt>
                <c:pt idx="3">
                  <c:v>Magé</c:v>
                </c:pt>
                <c:pt idx="4">
                  <c:v>Nova Friburgo</c:v>
                </c:pt>
                <c:pt idx="5">
                  <c:v>Teresópoli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6"/>
                <c:pt idx="0">
                  <c:v>0.148531485381787</c:v>
                </c:pt>
                <c:pt idx="1">
                  <c:v>0.140813705666976</c:v>
                </c:pt>
                <c:pt idx="2">
                  <c:v>0.160152008686211</c:v>
                </c:pt>
                <c:pt idx="3">
                  <c:v>0.147236302196476</c:v>
                </c:pt>
                <c:pt idx="4">
                  <c:v>0.189839572192513</c:v>
                </c:pt>
                <c:pt idx="5">
                  <c:v>0.232187070151307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Jovens fora da escola</c:v>
                </c:pt>
              </c:strCache>
            </c:strRef>
          </c:tx>
          <c:spPr>
            <a:solidFill>
              <a:srgbClr val="c5000b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Estado RJ</c:v>
                </c:pt>
                <c:pt idx="1">
                  <c:v>AAI</c:v>
                </c:pt>
                <c:pt idx="2">
                  <c:v>Guapimirim</c:v>
                </c:pt>
                <c:pt idx="3">
                  <c:v>Magé</c:v>
                </c:pt>
                <c:pt idx="4">
                  <c:v>Nova Friburgo</c:v>
                </c:pt>
                <c:pt idx="5">
                  <c:v>Teresópolis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6"/>
                <c:pt idx="0">
                  <c:v>0.131198628449302</c:v>
                </c:pt>
                <c:pt idx="1">
                  <c:v>0.125408269697823</c:v>
                </c:pt>
                <c:pt idx="2">
                  <c:v>0.167565745111261</c:v>
                </c:pt>
                <c:pt idx="3">
                  <c:v>0.129777134121812</c:v>
                </c:pt>
                <c:pt idx="4">
                  <c:v>0.138666666666667</c:v>
                </c:pt>
                <c:pt idx="5">
                  <c:v>0.173584905660377</c:v>
                </c:pt>
              </c:numCache>
            </c:numRef>
          </c:val>
        </c:ser>
        <c:gapWidth val="100"/>
        <c:overlap val="0"/>
        <c:axId val="14473375"/>
        <c:axId val="82558251"/>
      </c:barChart>
      <c:catAx>
        <c:axId val="1447337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200" spc="-1" strike="noStrike">
                <a:solidFill>
                  <a:srgbClr val="3a3935"/>
                </a:solidFill>
                <a:latin typeface="Arial"/>
              </a:defRPr>
            </a:pPr>
          </a:p>
        </c:txPr>
        <c:crossAx val="82558251"/>
        <c:crosses val="autoZero"/>
        <c:auto val="1"/>
        <c:lblAlgn val="ctr"/>
        <c:lblOffset val="100"/>
        <c:noMultiLvlLbl val="0"/>
      </c:catAx>
      <c:valAx>
        <c:axId val="82558251"/>
        <c:scaling>
          <c:orientation val="minMax"/>
          <c:max val="1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0%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200" spc="-1" strike="noStrike">
                <a:solidFill>
                  <a:srgbClr val="3a3935"/>
                </a:solidFill>
                <a:latin typeface="Arial"/>
              </a:defRPr>
            </a:pPr>
          </a:p>
        </c:txPr>
        <c:crossAx val="14473375"/>
        <c:crossesAt val="1"/>
        <c:crossBetween val="between"/>
        <c:majorUnit val="0.1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200" spc="-1" strike="noStrike">
              <a:solidFill>
                <a:srgbClr val="3a3935"/>
              </a:solidFill>
              <a:latin typeface="Arial"/>
            </a:defRPr>
          </a:pPr>
        </a:p>
      </c:txPr>
    </c:legend>
    <c:plotVisOnly val="1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"/>
          </p:nvPr>
        </p:nvSpPr>
        <p:spPr>
          <a:xfrm>
            <a:off x="3884760" y="0"/>
            <a:ext cx="29620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2640" cy="341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6208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AA7E8-EC7C-43DD-B331-AB5224A4A0E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66AB44-2339-4264-82E7-40CE93F90F2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9EA5D-0AE2-4318-BDA0-235FDCD623A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7C7C0-B0DC-4599-B588-44D29744A79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C0D3F-A736-4197-9973-3FF188F3F5C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769DE-CD26-4218-AED3-E95782B7EBC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79388-7208-4EB6-8987-F8C207B2615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71CE8-2E7B-4DBB-B48E-21160FE7B1C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85F9A-D318-4798-81D9-5DB2D9C08E3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576D5-1ADD-4509-B0F7-419B1E5AB44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2F60F-24A7-4422-A923-6496FA8F1F8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7580C-5091-47D4-91E2-7C631D77198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F848E-BF54-40BC-81D9-A557AD882AB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3B78B-37BC-4823-BD70-4408B5817CD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1C1C4-5936-4190-8CF8-39A7A10121B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657BE-254E-48ED-8631-A93158B1FA9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87F3F-C895-46BE-8415-8A9228F3CCD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7159A-D0F3-41F6-9902-5F6385BF68C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1DCA5-F19E-472E-844D-D479F307523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CF61F-457F-4877-A2E4-16A8C8B1DCB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09039-297C-461B-9D19-7D951B0E94A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25357-D958-41EA-BF0C-56FB8726CD7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7121C-43CE-471A-9CFC-936366CE886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95B0B-C5C8-4A0B-89D1-57E48BCFE3B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77016-8D63-497E-9793-9D02DBE2EE8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D75B6-534E-40F5-BF22-377300673E2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7EA456-DB93-4168-8927-FF0AA627B5B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5E45A-BECD-488B-B8D7-E83CA3D64C8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A3948-E56B-4959-90E6-1A6B5B01A67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82DBC2-6303-43A0-AC9E-5D02F5739E0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2F0B2D-6250-4546-97D5-84875FE5D55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9C53D-2C40-4CC4-8082-AF30BE3DDF4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F6D3A2-5410-456B-9387-845C721E6BC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90F4D-C3C4-4D1B-A6AD-6AF74972789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93B9D-802F-4CBA-9F36-5E6246BA64B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B7ACA-2DC0-469A-8F94-B5D56343442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CAD1C-BA23-4D44-9CF3-005CD9BEE85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D99CB-7FDC-4BE5-88B5-BC295951744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909D4-599F-4143-AEF9-4030D05F091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1BF82-7D53-4FEA-A3E7-5AC968D98CF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FE56B-4C47-472E-BC2E-D70B2BA2D44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C0FED-880C-4CE0-A0A1-C3E3CE9688E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53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D4B0A-C0D1-49D0-9722-A7F29E47CF8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7D094-6ACA-47D6-BA8A-DD0B4BF5653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37F26-7757-40D2-A98E-3C17E6B065F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7BA6F-0E2C-402B-BE48-AEC2C78E37A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5A44C-747B-424C-8BB2-1D702AA275F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6E69F-F90E-42F9-85A1-16191964849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67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59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9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67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59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67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59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67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59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67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59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930920" y="6478560"/>
            <a:ext cx="3687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"/>
          <p:cNvSpPr/>
          <p:nvPr/>
        </p:nvSpPr>
        <p:spPr>
          <a:xfrm>
            <a:off x="4930920" y="6478560"/>
            <a:ext cx="3687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6970680" cy="53532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3"/>
          <a:stretch/>
        </p:blipFill>
        <p:spPr>
          <a:xfrm>
            <a:off x="243000" y="5526000"/>
            <a:ext cx="8820000" cy="1262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4"/>
          <a:srcRect l="0" t="0" r="0" b="11413"/>
          <a:stretch/>
        </p:blipFill>
        <p:spPr>
          <a:xfrm>
            <a:off x="6184800" y="1228680"/>
            <a:ext cx="2428920" cy="13143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3375000" y="2664000"/>
            <a:ext cx="53452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624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Seminário Region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ts val="1624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julho 20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4930920" y="6478560"/>
            <a:ext cx="3687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rcRect l="0" t="0" r="0" b="11425"/>
          <a:stretch/>
        </p:blipFill>
        <p:spPr>
          <a:xfrm>
            <a:off x="7672320" y="6199200"/>
            <a:ext cx="941400" cy="5094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398520" y="6508800"/>
            <a:ext cx="591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Calibri"/>
              </a:rPr>
              <a:t>SEMINÁRIO REGIONAL INCID (INDICADORES DA CIDADANIA) – GUAPIMIRIM, MAGÉ, NOVA FRIBURGO E TERESÓPOLI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4930920" y="6478560"/>
            <a:ext cx="3687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rcRect l="0" t="0" r="0" b="11425"/>
          <a:stretch/>
        </p:blipFill>
        <p:spPr>
          <a:xfrm>
            <a:off x="7672320" y="6199200"/>
            <a:ext cx="941400" cy="5094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398520" y="6508800"/>
            <a:ext cx="591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Calibri"/>
              </a:rPr>
              <a:t>SEMINÁRIO REGIONAL INCID (INDICADORES DA CIDADANIA) – GUAPIMIRIM, MAGÉ, NOVA FRIBURGO E TERESÓPOLI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4930920" y="6478560"/>
            <a:ext cx="3687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2"/>
          <a:srcRect l="0" t="0" r="0" b="11425"/>
          <a:stretch/>
        </p:blipFill>
        <p:spPr>
          <a:xfrm>
            <a:off x="7672320" y="6199200"/>
            <a:ext cx="941400" cy="5094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398520" y="6508800"/>
            <a:ext cx="591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Calibri"/>
              </a:rPr>
              <a:t>SEMINÁRIO REGIONAL INCID (INDICADORES DA CIDADANIA) – GUAPIMIRIM, MAGÉ, NOVA FRIBURGO E TERESÓPOLI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4930920" y="6478560"/>
            <a:ext cx="3687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2"/>
          <a:srcRect l="0" t="0" r="0" b="11425"/>
          <a:stretch/>
        </p:blipFill>
        <p:spPr>
          <a:xfrm>
            <a:off x="7672320" y="6199200"/>
            <a:ext cx="941400" cy="5094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398520" y="6508800"/>
            <a:ext cx="591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Calibri"/>
              </a:rPr>
              <a:t>SEMINÁRIO REGIONAL INCID (INDICADORES DA CIDADANIA) – GUAPIMIRIM, MAGÉ, NOVA FRIBURGO E TERESÓPOLI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"/>
          <p:cNvSpPr/>
          <p:nvPr/>
        </p:nvSpPr>
        <p:spPr>
          <a:xfrm>
            <a:off x="360360" y="6048360"/>
            <a:ext cx="41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538200" y="463680"/>
            <a:ext cx="816912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rcentual de escolas com acesso à serviços públicos por tipo de serviç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268200" y="781200"/>
            <a:ext cx="888228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"/>
          <p:cNvSpPr/>
          <p:nvPr/>
        </p:nvSpPr>
        <p:spPr>
          <a:xfrm>
            <a:off x="144360" y="123840"/>
            <a:ext cx="8783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Políticas Públicas em Saneamento na área do In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42840" y="744480"/>
            <a:ext cx="9055080" cy="607068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3"/>
          <p:cNvSpPr/>
          <p:nvPr/>
        </p:nvSpPr>
        <p:spPr>
          <a:xfrm>
            <a:off x="2797200" y="2449440"/>
            <a:ext cx="150804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500" spc="-1" strike="noStrike">
                <a:solidFill>
                  <a:srgbClr val="92d050"/>
                </a:solidFill>
                <a:latin typeface="Arial"/>
              </a:rPr>
              <a:t>SEA/AGEVAP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3513240" y="4116240"/>
            <a:ext cx="134928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500" spc="-1" strike="noStrike">
                <a:solidFill>
                  <a:srgbClr val="d99694"/>
                </a:solidFill>
                <a:latin typeface="Arial"/>
              </a:rPr>
              <a:t>PSA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3035160" y="4908600"/>
            <a:ext cx="79560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300" spc="-1" strike="noStrike">
                <a:solidFill>
                  <a:srgbClr val="e46c0a"/>
                </a:solidFill>
                <a:latin typeface="Arial"/>
              </a:rPr>
              <a:t>PS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2163600" y="5307120"/>
            <a:ext cx="70488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e46c0a"/>
                </a:solidFill>
                <a:latin typeface="Arial"/>
              </a:rPr>
              <a:t>PS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1846440" y="5862600"/>
            <a:ext cx="71424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000" spc="-1" strike="noStrike">
                <a:solidFill>
                  <a:srgbClr val="e46c0a"/>
                </a:solidFill>
                <a:latin typeface="Arial"/>
              </a:rPr>
              <a:t>PSA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8"/>
          <p:cNvSpPr/>
          <p:nvPr/>
        </p:nvSpPr>
        <p:spPr>
          <a:xfrm>
            <a:off x="2481120" y="3878280"/>
            <a:ext cx="79380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300" spc="-1" strike="noStrike">
                <a:solidFill>
                  <a:srgbClr val="d99694"/>
                </a:solidFill>
                <a:latin typeface="Arial"/>
              </a:rPr>
              <a:t>PS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1685880" y="4116240"/>
            <a:ext cx="95256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500" spc="-1" strike="noStrike">
                <a:solidFill>
                  <a:srgbClr val="d99694"/>
                </a:solidFill>
                <a:latin typeface="Arial"/>
              </a:rPr>
              <a:t>PSA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3767040" y="5137200"/>
            <a:ext cx="55728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900" spc="-1" strike="noStrike">
                <a:solidFill>
                  <a:srgbClr val="d99694"/>
                </a:solidFill>
                <a:latin typeface="Arial"/>
              </a:rPr>
              <a:t>PSA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4703760" y="2449440"/>
            <a:ext cx="87300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c000"/>
                </a:solidFill>
                <a:latin typeface="Arial"/>
              </a:rPr>
              <a:t>P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12"/>
          <p:cNvSpPr/>
          <p:nvPr/>
        </p:nvSpPr>
        <p:spPr>
          <a:xfrm>
            <a:off x="4624560" y="4751280"/>
            <a:ext cx="63648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500" spc="-1" strike="noStrike">
                <a:solidFill>
                  <a:srgbClr val="ffc000"/>
                </a:solidFill>
                <a:latin typeface="Arial"/>
              </a:rPr>
              <a:t>PAC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13"/>
          <p:cNvSpPr/>
          <p:nvPr/>
        </p:nvSpPr>
        <p:spPr>
          <a:xfrm>
            <a:off x="5418000" y="3798720"/>
            <a:ext cx="87336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c00000"/>
                </a:solidFill>
                <a:latin typeface="Arial"/>
              </a:rPr>
              <a:t>CB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14"/>
          <p:cNvSpPr/>
          <p:nvPr/>
        </p:nvSpPr>
        <p:spPr>
          <a:xfrm>
            <a:off x="2878200" y="6100920"/>
            <a:ext cx="63504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500" spc="-1" strike="noStrike">
                <a:solidFill>
                  <a:srgbClr val="ffc000"/>
                </a:solidFill>
                <a:latin typeface="Arial"/>
              </a:rPr>
              <a:t>PAC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15"/>
          <p:cNvSpPr/>
          <p:nvPr/>
        </p:nvSpPr>
        <p:spPr>
          <a:xfrm>
            <a:off x="4862520" y="5545080"/>
            <a:ext cx="79380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c00000"/>
                </a:solidFill>
                <a:latin typeface="Arial"/>
              </a:rPr>
              <a:t>CB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16"/>
          <p:cNvSpPr/>
          <p:nvPr/>
        </p:nvSpPr>
        <p:spPr>
          <a:xfrm>
            <a:off x="7164360" y="3481560"/>
            <a:ext cx="119232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CB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17"/>
          <p:cNvSpPr/>
          <p:nvPr/>
        </p:nvSpPr>
        <p:spPr>
          <a:xfrm>
            <a:off x="166680" y="6576840"/>
            <a:ext cx="174780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Fonte: INE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"/>
          <p:cNvSpPr/>
          <p:nvPr/>
        </p:nvSpPr>
        <p:spPr>
          <a:xfrm>
            <a:off x="428760" y="0"/>
            <a:ext cx="82087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Comitês de Bacias Hidrográf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500040" y="714240"/>
          <a:ext cx="8286840" cy="5511960"/>
        </p:xfrm>
        <a:graphic>
          <a:graphicData uri="http://schemas.openxmlformats.org/drawingml/2006/table">
            <a:tbl>
              <a:tblPr/>
              <a:tblGrid>
                <a:gridCol w="2952720"/>
                <a:gridCol w="3341880"/>
                <a:gridCol w="1992240"/>
              </a:tblGrid>
              <a:tr h="73980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gião Hidrográf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Municíp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Vacância da sociedade civ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</a:tr>
              <a:tr h="76068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gião Hidrográfica  IV - Comitê Piabanh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Teresópol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 vaga titular (total 9 vaga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  <a:tr h="147132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gião Hidrográfica  V - Comitê Baia de Guanaba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Magé, Guapimirim, Cachoeiras de Macacu, Niterói, São Gonçalo, Itaboraí, Tanguá, Maricá e Rio Boni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9 vagas suplente (total 15 vaga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  <a:tr h="76680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gião Hidrográfica  VI - Comitê Lagos São Jo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aquarema, Rio Bonito e Silva Jardi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 vagas titular (total 18 vaga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  <a:tr h="87624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gião Hidrográfica  VII - Comitê Rio Dois R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ova Fribur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 vaga titular (total 9 vaga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  <a:tr h="89712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gião Hidrográfica  VIII - Comitê Macaé e Das Ostr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Casimiro de Abre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 vagas suplente (total 9 vaga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Direito a água limpa (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1116000" y="1311120"/>
            <a:ext cx="6059520" cy="461340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3"/>
          <p:cNvSpPr/>
          <p:nvPr/>
        </p:nvSpPr>
        <p:spPr>
          <a:xfrm>
            <a:off x="669960" y="587700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Diferença de condições ambientais (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2"/>
          <p:cNvSpPr/>
          <p:nvPr/>
        </p:nvSpPr>
        <p:spPr>
          <a:xfrm>
            <a:off x="669960" y="587700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1146240" y="1305000"/>
            <a:ext cx="6565680" cy="43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457200" y="274680"/>
            <a:ext cx="8229600" cy="58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8000" spc="-1" strike="noStrike">
                <a:solidFill>
                  <a:srgbClr val="717b2f"/>
                </a:solidFill>
                <a:latin typeface="Arial Unicode MS"/>
                <a:ea typeface="Arial Unicode MS"/>
              </a:rPr>
              <a:t>TRABALHO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"/>
          <p:cNvSpPr/>
          <p:nvPr/>
        </p:nvSpPr>
        <p:spPr>
          <a:xfrm>
            <a:off x="538200" y="463680"/>
            <a:ext cx="81691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ssoas que declararam trabalhar (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868320" y="595476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3" descr=""/>
          <p:cNvPicPr/>
          <p:nvPr/>
        </p:nvPicPr>
        <p:blipFill>
          <a:blip r:embed="rId1"/>
          <a:stretch/>
        </p:blipFill>
        <p:spPr>
          <a:xfrm>
            <a:off x="811080" y="1390680"/>
            <a:ext cx="725976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"/>
          <p:cNvSpPr/>
          <p:nvPr/>
        </p:nvSpPr>
        <p:spPr>
          <a:xfrm>
            <a:off x="538200" y="463680"/>
            <a:ext cx="81691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 de trabalho (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868320" y="595476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3" descr=""/>
          <p:cNvPicPr/>
          <p:nvPr/>
        </p:nvPicPr>
        <p:blipFill>
          <a:blip r:embed="rId1"/>
          <a:stretch/>
        </p:blipFill>
        <p:spPr>
          <a:xfrm>
            <a:off x="590400" y="1054080"/>
            <a:ext cx="8096400" cy="471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1461960" y="1589040"/>
          <a:ext cx="5864400" cy="4162320"/>
        </p:xfrm>
        <a:graphic>
          <a:graphicData uri="http://schemas.openxmlformats.org/drawingml/2006/table">
            <a:tbl>
              <a:tblPr/>
              <a:tblGrid>
                <a:gridCol w="1606680"/>
                <a:gridCol w="1967040"/>
                <a:gridCol w="2290680"/>
              </a:tblGrid>
              <a:tr h="1087560"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unicíp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ssoas que trabalham em outro município (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ncipais municípios em que trabalha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</a:tr>
              <a:tr h="866880"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uapimiri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o de Janeiro, Duque de Caxi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8080"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gé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o de Janeiro, Duque de Caxias, Macaé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a Friburg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o de Janei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4600"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esópol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2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terói e Rio de Janei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2" name="Text Box 17"/>
          <p:cNvSpPr/>
          <p:nvPr/>
        </p:nvSpPr>
        <p:spPr>
          <a:xfrm>
            <a:off x="503280" y="392040"/>
            <a:ext cx="83930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ctr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Pessoas que necessitam transportar-se regularmente entre municípi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18"/>
          <p:cNvSpPr/>
          <p:nvPr/>
        </p:nvSpPr>
        <p:spPr>
          <a:xfrm>
            <a:off x="581040" y="1147680"/>
            <a:ext cx="81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tre as pessoas que trabalham, quantas trabalham em outro municípi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19"/>
          <p:cNvSpPr/>
          <p:nvPr/>
        </p:nvSpPr>
        <p:spPr>
          <a:xfrm>
            <a:off x="722160" y="5892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1"/>
          <p:cNvSpPr/>
          <p:nvPr/>
        </p:nvSpPr>
        <p:spPr>
          <a:xfrm>
            <a:off x="503280" y="392040"/>
            <a:ext cx="83930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ctr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Existência de transporte coletivo intermunicipal (201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285480" y="5892840"/>
            <a:ext cx="7168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Fonte: Dados primários. Levantamento da equipe Incid, junto às estações rodoviárias e empresas de transpor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743040" y="1359000"/>
          <a:ext cx="7897680" cy="3546360"/>
        </p:xfrm>
        <a:graphic>
          <a:graphicData uri="http://schemas.openxmlformats.org/drawingml/2006/table">
            <a:tbl>
              <a:tblPr/>
              <a:tblGrid>
                <a:gridCol w="1298520"/>
                <a:gridCol w="649080"/>
                <a:gridCol w="803520"/>
                <a:gridCol w="787320"/>
                <a:gridCol w="641520"/>
                <a:gridCol w="461880"/>
                <a:gridCol w="666720"/>
                <a:gridCol w="777960"/>
                <a:gridCol w="682560"/>
                <a:gridCol w="1128600"/>
              </a:tblGrid>
              <a:tr h="723960"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/PA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aboraí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uapimirim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choeiras de Macacu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simiro de Abreu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gé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a Friburg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esópoli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iteró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io de Janeir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</a:tr>
              <a:tr h="718920"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UAPIMIRI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7480"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GÉ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9280"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A FRIBURG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6720"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ESÓPOL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"/>
          <p:cNvSpPr/>
          <p:nvPr/>
        </p:nvSpPr>
        <p:spPr>
          <a:xfrm>
            <a:off x="457200" y="274680"/>
            <a:ext cx="8229600" cy="58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8000" spc="-1" strike="noStrike">
                <a:solidFill>
                  <a:srgbClr val="717b2f"/>
                </a:solidFill>
                <a:latin typeface="Arial Unicode MS"/>
                <a:ea typeface="Arial Unicode MS"/>
              </a:rPr>
              <a:t>HABITAÇÃO/</a:t>
            </a:r>
            <a:br>
              <a:rPr sz="8000"/>
            </a:br>
            <a:r>
              <a:rPr b="1" lang="pt-BR" sz="8000" spc="-1" strike="noStrike">
                <a:solidFill>
                  <a:srgbClr val="717b2f"/>
                </a:solidFill>
                <a:latin typeface="Arial Unicode MS"/>
                <a:ea typeface="Arial Unicode MS"/>
              </a:rPr>
              <a:t>SANEAMENTO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"/>
          <p:cNvSpPr/>
          <p:nvPr/>
        </p:nvSpPr>
        <p:spPr>
          <a:xfrm>
            <a:off x="538200" y="463680"/>
            <a:ext cx="81691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orção de jovens de 15 a 17 anos fora das escolas, segundo raça/etnia -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904680" y="5954760"/>
            <a:ext cx="66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Censo demográfico, 2010 (IBGE) – Cidadania Garanti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0" name="Object 3"/>
          <p:cNvGraphicFramePr/>
          <p:nvPr/>
        </p:nvGraphicFramePr>
        <p:xfrm>
          <a:off x="200160" y="1440000"/>
          <a:ext cx="8851680" cy="450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"/>
          <p:cNvSpPr/>
          <p:nvPr/>
        </p:nvSpPr>
        <p:spPr>
          <a:xfrm>
            <a:off x="538200" y="463680"/>
            <a:ext cx="81691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orção de jovens de 15 a 17 anos fora das escolas, segundo sexo -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904680" y="5954760"/>
            <a:ext cx="66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Censo demográfico, 2010 (IBGE) – Cidadania Garanti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1"/>
          <a:stretch/>
        </p:blipFill>
        <p:spPr>
          <a:xfrm>
            <a:off x="731880" y="1200240"/>
            <a:ext cx="7620120" cy="46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"/>
          <p:cNvSpPr/>
          <p:nvPr/>
        </p:nvSpPr>
        <p:spPr>
          <a:xfrm>
            <a:off x="538200" y="463680"/>
            <a:ext cx="81691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orção de crianças fora das creches, segundo raça/etnia -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904680" y="5954760"/>
            <a:ext cx="66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Censo demográfico, 2010 (IBGE) – Cidadania Garanti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792000" y="1457280"/>
            <a:ext cx="7682040" cy="44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1" descr=""/>
          <p:cNvPicPr/>
          <p:nvPr/>
        </p:nvPicPr>
        <p:blipFill>
          <a:blip r:embed="rId1"/>
          <a:stretch/>
        </p:blipFill>
        <p:spPr>
          <a:xfrm>
            <a:off x="984240" y="3816360"/>
            <a:ext cx="6800760" cy="460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2"/>
          <p:cNvSpPr/>
          <p:nvPr/>
        </p:nvSpPr>
        <p:spPr>
          <a:xfrm>
            <a:off x="457200" y="223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Desigualdade de gênero no acesso ao empre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906480" y="564840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inistério do Trabalho – RAIS/CAG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581040" y="1147680"/>
            <a:ext cx="81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Razão de sexo no mercado de trabalho formal – 2005-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5" descr=""/>
          <p:cNvPicPr/>
          <p:nvPr/>
        </p:nvPicPr>
        <p:blipFill>
          <a:blip r:embed="rId2"/>
          <a:stretch/>
        </p:blipFill>
        <p:spPr>
          <a:xfrm>
            <a:off x="633240" y="1554120"/>
            <a:ext cx="790128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1"/>
          <p:cNvSpPr/>
          <p:nvPr/>
        </p:nvSpPr>
        <p:spPr>
          <a:xfrm>
            <a:off x="341280" y="279360"/>
            <a:ext cx="8345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Desigualdade de gênero na renda do trabalho -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906480" y="564840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BGE -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581040" y="1147680"/>
            <a:ext cx="816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porção de trabalhadores formais segundo o sexo na faixa de rendimento até 1 salário míni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4" descr=""/>
          <p:cNvPicPr/>
          <p:nvPr/>
        </p:nvPicPr>
        <p:blipFill>
          <a:blip r:embed="rId1"/>
          <a:stretch/>
        </p:blipFill>
        <p:spPr>
          <a:xfrm>
            <a:off x="719280" y="1816200"/>
            <a:ext cx="799776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1"/>
          <p:cNvSpPr/>
          <p:nvPr/>
        </p:nvSpPr>
        <p:spPr>
          <a:xfrm>
            <a:off x="341280" y="279360"/>
            <a:ext cx="8345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Desigualdade de gênero na renda do trabalho -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2"/>
          <p:cNvSpPr/>
          <p:nvPr/>
        </p:nvSpPr>
        <p:spPr>
          <a:xfrm>
            <a:off x="615960" y="590400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BGE -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581040" y="1147680"/>
            <a:ext cx="816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porção de trabalhadores formais segundo o sexo na faixa de rendimento de mais de 5 salários mínimo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258840" y="1071720"/>
            <a:ext cx="8447040" cy="48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"/>
          <p:cNvSpPr/>
          <p:nvPr/>
        </p:nvSpPr>
        <p:spPr>
          <a:xfrm>
            <a:off x="457200" y="274680"/>
            <a:ext cx="8229600" cy="58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8000" spc="-1" strike="noStrike">
                <a:solidFill>
                  <a:srgbClr val="717b2f"/>
                </a:solidFill>
                <a:latin typeface="Arial Unicode MS"/>
                <a:ea typeface="Arial Unicode MS"/>
              </a:rPr>
              <a:t>DIREITO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"/>
          <p:cNvSpPr/>
          <p:nvPr/>
        </p:nvSpPr>
        <p:spPr>
          <a:xfrm>
            <a:off x="1281240" y="0"/>
            <a:ext cx="7119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Indicador de transparê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428760" y="6215400"/>
            <a:ext cx="4330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Dados Primários. Levantamento da equipe Incid nos sites das prefeitur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00040" y="714240"/>
          <a:ext cx="8143920" cy="5222880"/>
        </p:xfrm>
        <a:graphic>
          <a:graphicData uri="http://schemas.openxmlformats.org/drawingml/2006/table">
            <a:tbl>
              <a:tblPr/>
              <a:tblGrid>
                <a:gridCol w="4556160"/>
                <a:gridCol w="3587760"/>
              </a:tblGrid>
              <a:tr h="3574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Unidade Geográfica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bd5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ível de transparênci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bd5e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---------------------------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&gt; 21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MAG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Maricá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2844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ão Gonça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28872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aquare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016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Casimiro de Abre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Itabora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2844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iteró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47ff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Cachoeiras de Macac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47ff"/>
                    </a:solidFill>
                  </a:tcPr>
                </a:tc>
              </a:tr>
              <a:tr h="3394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ilva Jardi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47ff"/>
                    </a:solidFill>
                  </a:tcPr>
                </a:tc>
              </a:tr>
              <a:tr h="3384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TERESÓPOL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47ff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OVA FRIBURG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47ff"/>
                    </a:solidFill>
                  </a:tcPr>
                </a:tc>
              </a:tr>
              <a:tr h="3524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io Boni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47ff"/>
                    </a:solidFill>
                  </a:tcPr>
                </a:tc>
              </a:tr>
              <a:tr h="28872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 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----------------------------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06 a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300dc"/>
                    </a:solidFill>
                  </a:tcPr>
                </a:tc>
              </a:tr>
              <a:tr h="3398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GUAPIMIRI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0099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Tanguá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00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"/>
          <p:cNvSpPr/>
          <p:nvPr/>
        </p:nvSpPr>
        <p:spPr>
          <a:xfrm>
            <a:off x="1339920" y="155520"/>
            <a:ext cx="711828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Itens de comunicação com a popul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955800" y="1263600"/>
          <a:ext cx="7200720" cy="4905360"/>
        </p:xfrm>
        <a:graphic>
          <a:graphicData uri="http://schemas.openxmlformats.org/drawingml/2006/table">
            <a:tbl>
              <a:tblPr/>
              <a:tblGrid>
                <a:gridCol w="5951520"/>
                <a:gridCol w="1249200"/>
              </a:tblGrid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em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bd5e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bd5e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Gastos com   recursos    humanos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Programas e ações realizadas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Despesas em execução de programas e ações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Orçamento municipal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Gastos com Obras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 Localidades de acesso aos serviços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 Canais de comunicação       Ouvidoria/Fale conosc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3948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 Teste de resposta ao canal “Fale conosco” pessoa jurídica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 Teste de resposta ao canal “Fale conosco” pessoa física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 Administração do patrimônio públic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 Respostas às perguntas mais frequentes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Serviços disponibilizados pelo site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atos disponibilizados pelo site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 Atualizaçã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"/>
          <p:cNvSpPr/>
          <p:nvPr/>
        </p:nvSpPr>
        <p:spPr>
          <a:xfrm>
            <a:off x="1281240" y="20520"/>
            <a:ext cx="7119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ireito a condições básicas de v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1371600" y="1378080"/>
            <a:ext cx="6656400" cy="43894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3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Acesso à ág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906480" y="5648400"/>
            <a:ext cx="36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581040" y="1147680"/>
            <a:ext cx="816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Variação na proporção de domicílios com abastecimento de água inadequado – 2000/2010 (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1268280" y="1944720"/>
            <a:ext cx="7143840" cy="35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1"/>
          <p:cNvSpPr/>
          <p:nvPr/>
        </p:nvSpPr>
        <p:spPr>
          <a:xfrm>
            <a:off x="1281240" y="233280"/>
            <a:ext cx="71197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ireito a educação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Picture 3" descr=""/>
          <p:cNvPicPr/>
          <p:nvPr/>
        </p:nvPicPr>
        <p:blipFill>
          <a:blip r:embed="rId1"/>
          <a:stretch/>
        </p:blipFill>
        <p:spPr>
          <a:xfrm>
            <a:off x="1657440" y="1292400"/>
            <a:ext cx="6151320" cy="46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"/>
          <p:cNvSpPr/>
          <p:nvPr/>
        </p:nvSpPr>
        <p:spPr>
          <a:xfrm>
            <a:off x="1281240" y="233280"/>
            <a:ext cx="71197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ireito a saúde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1463760" y="1189080"/>
            <a:ext cx="6338880" cy="46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Iguald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3" descr=""/>
          <p:cNvPicPr/>
          <p:nvPr/>
        </p:nvPicPr>
        <p:blipFill>
          <a:blip r:embed="rId1"/>
          <a:stretch/>
        </p:blipFill>
        <p:spPr>
          <a:xfrm>
            <a:off x="1347840" y="1152360"/>
            <a:ext cx="6381720" cy="41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Respeito à diversid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884160" y="1036800"/>
            <a:ext cx="755820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Respeito aos direitos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3" descr=""/>
          <p:cNvPicPr/>
          <p:nvPr/>
        </p:nvPicPr>
        <p:blipFill>
          <a:blip r:embed="rId1"/>
          <a:stretch/>
        </p:blipFill>
        <p:spPr>
          <a:xfrm>
            <a:off x="1206360" y="1182600"/>
            <a:ext cx="6894720" cy="47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1"/>
          <p:cNvSpPr/>
          <p:nvPr/>
        </p:nvSpPr>
        <p:spPr>
          <a:xfrm>
            <a:off x="287280" y="274680"/>
            <a:ext cx="8399520" cy="58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7200" spc="-1" strike="noStrike">
                <a:solidFill>
                  <a:srgbClr val="717b2f"/>
                </a:solidFill>
                <a:latin typeface="Arial Unicode MS"/>
                <a:ea typeface="Arial Unicode MS"/>
              </a:rPr>
              <a:t>PARTICIPAÇÃ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1"/>
          <p:cNvSpPr/>
          <p:nvPr/>
        </p:nvSpPr>
        <p:spPr>
          <a:xfrm>
            <a:off x="1281240" y="-14400"/>
            <a:ext cx="7119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Você faz parte de algum grupo ou organização que se reúne regularmente?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987480" y="1359000"/>
            <a:ext cx="7199280" cy="43527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3"/>
          <p:cNvSpPr/>
          <p:nvPr/>
        </p:nvSpPr>
        <p:spPr>
          <a:xfrm>
            <a:off x="554040" y="5808600"/>
            <a:ext cx="53164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1"/>
          <p:cNvSpPr/>
          <p:nvPr/>
        </p:nvSpPr>
        <p:spPr>
          <a:xfrm>
            <a:off x="1060560" y="187200"/>
            <a:ext cx="7340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Grupo ou organização dos quais fazem parte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511200" y="6081840"/>
            <a:ext cx="53164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444600" y="890640"/>
            <a:ext cx="825480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articipação na educação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Picture 3" descr=""/>
          <p:cNvPicPr/>
          <p:nvPr/>
        </p:nvPicPr>
        <p:blipFill>
          <a:blip r:embed="rId1"/>
          <a:stretch/>
        </p:blipFill>
        <p:spPr>
          <a:xfrm>
            <a:off x="1182600" y="1189080"/>
            <a:ext cx="6589800" cy="45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articipação e saúde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Picture 3" descr=""/>
          <p:cNvPicPr/>
          <p:nvPr/>
        </p:nvPicPr>
        <p:blipFill>
          <a:blip r:embed="rId1"/>
          <a:stretch/>
        </p:blipFill>
        <p:spPr>
          <a:xfrm>
            <a:off x="585720" y="633240"/>
            <a:ext cx="7693200" cy="538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457200" y="6840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Acesso à água</a:t>
            </a:r>
            <a:br>
              <a:rPr sz="3200"/>
            </a:br>
            <a:r>
              <a:rPr b="1" lang="pt-BR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Construção do Indicador</a:t>
            </a:r>
            <a:br>
              <a:rPr sz="2400"/>
            </a:b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 Domicílios por forma de abastecimento de água – 2000/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895320" y="6119640"/>
            <a:ext cx="3605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581040" y="1147680"/>
            <a:ext cx="8169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360360" y="1800360"/>
          <a:ext cx="8280360" cy="4532040"/>
        </p:xfrm>
        <a:graphic>
          <a:graphicData uri="http://schemas.openxmlformats.org/drawingml/2006/table">
            <a:tbl>
              <a:tblPr/>
              <a:tblGrid>
                <a:gridCol w="1681200"/>
                <a:gridCol w="1098360"/>
                <a:gridCol w="1100160"/>
                <a:gridCol w="1122480"/>
                <a:gridCol w="1170000"/>
                <a:gridCol w="1006560"/>
                <a:gridCol w="1101600"/>
              </a:tblGrid>
              <a:tr h="798480"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e da Federação e Municípi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6240"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e ger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ço ou nascente (na propriedade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 form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e ger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ço ou nascente (na propriedade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 form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08240">
                <a:tc>
                  <a:txBody>
                    <a:bodyPr lIns="36000" rIns="36000" tIns="209880" bIns="360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DE JANEIR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40.17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.9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.68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34.24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5.79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.93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570240">
                <a:tc>
                  <a:txBody>
                    <a:bodyPr lIns="36000" rIns="36000" tIns="209880" bIns="360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 DO COMPERJ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82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.05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68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.78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.66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99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08240">
                <a:tc>
                  <a:txBody>
                    <a:bodyPr lIns="36000" rIns="36000" tIns="209880" bIns="360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APIMIRIM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3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9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76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5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1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08240">
                <a:tc>
                  <a:txBody>
                    <a:bodyPr lIns="36000" rIns="36000" tIns="209880" bIns="360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É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11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68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9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23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24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91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570240">
                <a:tc>
                  <a:txBody>
                    <a:bodyPr lIns="36000" rIns="36000" tIns="209880" bIns="360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 FRIBURG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51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79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4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99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69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3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08240">
                <a:tc>
                  <a:txBody>
                    <a:bodyPr lIns="36000" rIns="36000" tIns="209880" bIns="360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ESÓPOLI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36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38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5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78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6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62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articipação e meio ambiente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969840" y="1116000"/>
            <a:ext cx="743580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"/>
          <p:cNvSpPr/>
          <p:nvPr/>
        </p:nvSpPr>
        <p:spPr>
          <a:xfrm>
            <a:off x="1281240" y="200160"/>
            <a:ext cx="71197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articipação e garantia de direi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841320" y="871560"/>
            <a:ext cx="7845480" cy="498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articipação e mudança social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103400" y="1030320"/>
            <a:ext cx="6834240" cy="49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1" descr=""/>
          <p:cNvPicPr/>
          <p:nvPr/>
        </p:nvPicPr>
        <p:blipFill>
          <a:blip r:embed="rId1"/>
          <a:srcRect l="0" t="0" r="0" b="-22540"/>
          <a:stretch/>
        </p:blipFill>
        <p:spPr>
          <a:xfrm>
            <a:off x="5411880" y="2252520"/>
            <a:ext cx="3201840" cy="23986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6970680" cy="53532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" descr=""/>
          <p:cNvPicPr/>
          <p:nvPr/>
        </p:nvPicPr>
        <p:blipFill>
          <a:blip r:embed="rId3"/>
          <a:stretch/>
        </p:blipFill>
        <p:spPr>
          <a:xfrm>
            <a:off x="747720" y="5599080"/>
            <a:ext cx="8315280" cy="118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2519280" y="31680"/>
            <a:ext cx="64803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Acesso à água</a:t>
            </a:r>
            <a:br>
              <a:rPr sz="3200"/>
            </a:br>
            <a:r>
              <a:rPr b="1" lang="pt-BR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Construção do Indica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2. Variação na proporção de domicílios com inadequação – 2000/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720720" y="1800360"/>
          <a:ext cx="8101080" cy="5551200"/>
        </p:xfrm>
        <a:graphic>
          <a:graphicData uri="http://schemas.openxmlformats.org/drawingml/2006/table">
            <a:tbl>
              <a:tblPr/>
              <a:tblGrid>
                <a:gridCol w="2022480"/>
                <a:gridCol w="2025720"/>
                <a:gridCol w="2025720"/>
                <a:gridCol w="2027160"/>
              </a:tblGrid>
              <a:tr h="497520">
                <a:tc rowSpan="2"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e da Federação e Municíp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 gridSpan="3"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DEQU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69228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DE JANEI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69228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 DO COMPER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49752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APIMIRI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49752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69228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 FRIBURG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2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49752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ESÓPOL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Acesso a esgotamento sanitá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906480" y="5648400"/>
            <a:ext cx="36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581040" y="1147680"/>
            <a:ext cx="81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oporção de domicílios com esgotamento sanitário inadequado -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1073160" y="1633680"/>
            <a:ext cx="7369200" cy="37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Acesso à habita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906480" y="5648400"/>
            <a:ext cx="36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581040" y="1147680"/>
            <a:ext cx="81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oporção da população residente em aglomerados subnormais –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1030320" y="1633680"/>
            <a:ext cx="7138800" cy="37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Desigualdade no padrão habit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2"/>
          <p:cNvSpPr/>
          <p:nvPr/>
        </p:nvSpPr>
        <p:spPr>
          <a:xfrm>
            <a:off x="906480" y="5648400"/>
            <a:ext cx="36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581040" y="1147680"/>
            <a:ext cx="81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oporção de domicílios sem banheiro e com 4 banheiros ou mais –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1"/>
          <a:stretch/>
        </p:blipFill>
        <p:spPr>
          <a:xfrm>
            <a:off x="407880" y="1542960"/>
            <a:ext cx="8613720" cy="416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Acesso à coleta de lix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2"/>
          <p:cNvSpPr/>
          <p:nvPr/>
        </p:nvSpPr>
        <p:spPr>
          <a:xfrm>
            <a:off x="906480" y="5648400"/>
            <a:ext cx="36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581040" y="1147680"/>
            <a:ext cx="816912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oporção de domicílios com destino do lixo inadequado (%) –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963720" y="1719360"/>
            <a:ext cx="7338960" cy="3773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5:52:10Z</dcterms:created>
  <dc:creator>Mariana</dc:creator>
  <dc:description/>
  <dc:language>en-US</dc:language>
  <cp:lastModifiedBy>IBASE</cp:lastModifiedBy>
  <cp:lastPrinted>2012-07-20T14:21:53Z</cp:lastPrinted>
  <dcterms:modified xsi:type="dcterms:W3CDTF">2012-07-20T18:42:46Z</dcterms:modified>
  <cp:revision>195</cp:revision>
  <dc:subject/>
  <dc:title>Slide 1</dc:title>
</cp:coreProperties>
</file>